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B298-5157-42D7-AB2C-EA135A964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62C5-3874-4E10-8365-0F32E12C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FAA2-8768-4D61-B9F1-3DFD45DF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7F36-4C36-46E7-9D35-D0D7C53B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167A-64AF-4496-822F-BA1D56EA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6767-F738-4956-B630-D958A17C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60DA-9F06-4048-94DF-CAE5D1DF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E4C2-61E8-4B99-A540-25B7E427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B45D-0CA4-43BE-9BE2-8637D21A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6234-A30D-4FB0-B4C7-861D84E6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30F4-492F-464F-A65E-FDBD45243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D78A-0C8B-4BF2-A041-D3806ACFF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2124000" cy="685800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rot="16200000">
            <a:off x="-3086640" y="3086640"/>
            <a:ext cx="6858000" cy="6843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005360" y="189000"/>
            <a:ext cx="1143000" cy="179280"/>
          </a:xfrm>
          <a:custGeom>
            <a:avLst/>
            <a:gdLst/>
            <a:ahLst/>
            <a:rect l="l" t="t" r="r" b="b"/>
            <a:pathLst>
              <a:path w="3392" h="536">
                <a:moveTo>
                  <a:pt x="366" y="19"/>
                </a:moveTo>
                <a:lnTo>
                  <a:pt x="366" y="119"/>
                </a:lnTo>
                <a:lnTo>
                  <a:pt x="347" y="112"/>
                </a:lnTo>
                <a:lnTo>
                  <a:pt x="328" y="106"/>
                </a:lnTo>
                <a:lnTo>
                  <a:pt x="310" y="101"/>
                </a:lnTo>
                <a:lnTo>
                  <a:pt x="292" y="97"/>
                </a:lnTo>
                <a:lnTo>
                  <a:pt x="275" y="94"/>
                </a:lnTo>
                <a:lnTo>
                  <a:pt x="258" y="92"/>
                </a:lnTo>
                <a:lnTo>
                  <a:pt x="242" y="90"/>
                </a:lnTo>
                <a:lnTo>
                  <a:pt x="226" y="90"/>
                </a:lnTo>
                <a:lnTo>
                  <a:pt x="217" y="90"/>
                </a:lnTo>
                <a:lnTo>
                  <a:pt x="209" y="91"/>
                </a:lnTo>
                <a:lnTo>
                  <a:pt x="201" y="92"/>
                </a:lnTo>
                <a:lnTo>
                  <a:pt x="193" y="93"/>
                </a:lnTo>
                <a:lnTo>
                  <a:pt x="186" y="95"/>
                </a:lnTo>
                <a:lnTo>
                  <a:pt x="180" y="97"/>
                </a:lnTo>
                <a:lnTo>
                  <a:pt x="174" y="100"/>
                </a:lnTo>
                <a:lnTo>
                  <a:pt x="168" y="103"/>
                </a:lnTo>
                <a:lnTo>
                  <a:pt x="163" y="106"/>
                </a:lnTo>
                <a:lnTo>
                  <a:pt x="158" y="110"/>
                </a:lnTo>
                <a:lnTo>
                  <a:pt x="155" y="113"/>
                </a:lnTo>
                <a:lnTo>
                  <a:pt x="153" y="115"/>
                </a:lnTo>
                <a:lnTo>
                  <a:pt x="152" y="117"/>
                </a:lnTo>
                <a:lnTo>
                  <a:pt x="149" y="121"/>
                </a:lnTo>
                <a:lnTo>
                  <a:pt x="148" y="126"/>
                </a:lnTo>
                <a:lnTo>
                  <a:pt x="147" y="130"/>
                </a:lnTo>
                <a:lnTo>
                  <a:pt x="146" y="135"/>
                </a:lnTo>
                <a:lnTo>
                  <a:pt x="147" y="141"/>
                </a:lnTo>
                <a:lnTo>
                  <a:pt x="149" y="147"/>
                </a:lnTo>
                <a:lnTo>
                  <a:pt x="151" y="150"/>
                </a:lnTo>
                <a:lnTo>
                  <a:pt x="153" y="153"/>
                </a:lnTo>
                <a:lnTo>
                  <a:pt x="156" y="155"/>
                </a:lnTo>
                <a:lnTo>
                  <a:pt x="157" y="157"/>
                </a:lnTo>
                <a:lnTo>
                  <a:pt x="159" y="158"/>
                </a:lnTo>
                <a:lnTo>
                  <a:pt x="166" y="164"/>
                </a:lnTo>
                <a:lnTo>
                  <a:pt x="174" y="169"/>
                </a:lnTo>
                <a:lnTo>
                  <a:pt x="184" y="174"/>
                </a:lnTo>
                <a:lnTo>
                  <a:pt x="196" y="179"/>
                </a:lnTo>
                <a:lnTo>
                  <a:pt x="291" y="225"/>
                </a:lnTo>
                <a:lnTo>
                  <a:pt x="305" y="232"/>
                </a:lnTo>
                <a:lnTo>
                  <a:pt x="318" y="239"/>
                </a:lnTo>
                <a:lnTo>
                  <a:pt x="330" y="247"/>
                </a:lnTo>
                <a:lnTo>
                  <a:pt x="342" y="255"/>
                </a:lnTo>
                <a:lnTo>
                  <a:pt x="352" y="263"/>
                </a:lnTo>
                <a:lnTo>
                  <a:pt x="361" y="272"/>
                </a:lnTo>
                <a:lnTo>
                  <a:pt x="370" y="281"/>
                </a:lnTo>
                <a:lnTo>
                  <a:pt x="378" y="290"/>
                </a:lnTo>
                <a:lnTo>
                  <a:pt x="381" y="294"/>
                </a:lnTo>
                <a:lnTo>
                  <a:pt x="384" y="299"/>
                </a:lnTo>
                <a:lnTo>
                  <a:pt x="390" y="308"/>
                </a:lnTo>
                <a:lnTo>
                  <a:pt x="395" y="318"/>
                </a:lnTo>
                <a:lnTo>
                  <a:pt x="399" y="328"/>
                </a:lnTo>
                <a:lnTo>
                  <a:pt x="402" y="338"/>
                </a:lnTo>
                <a:lnTo>
                  <a:pt x="405" y="349"/>
                </a:lnTo>
                <a:lnTo>
                  <a:pt x="406" y="360"/>
                </a:lnTo>
                <a:lnTo>
                  <a:pt x="407" y="371"/>
                </a:lnTo>
                <a:lnTo>
                  <a:pt x="406" y="381"/>
                </a:lnTo>
                <a:lnTo>
                  <a:pt x="406" y="390"/>
                </a:lnTo>
                <a:lnTo>
                  <a:pt x="404" y="398"/>
                </a:lnTo>
                <a:lnTo>
                  <a:pt x="403" y="407"/>
                </a:lnTo>
                <a:lnTo>
                  <a:pt x="401" y="415"/>
                </a:lnTo>
                <a:lnTo>
                  <a:pt x="398" y="423"/>
                </a:lnTo>
                <a:lnTo>
                  <a:pt x="395" y="431"/>
                </a:lnTo>
                <a:lnTo>
                  <a:pt x="391" y="439"/>
                </a:lnTo>
                <a:lnTo>
                  <a:pt x="387" y="446"/>
                </a:lnTo>
                <a:lnTo>
                  <a:pt x="383" y="453"/>
                </a:lnTo>
                <a:lnTo>
                  <a:pt x="378" y="460"/>
                </a:lnTo>
                <a:lnTo>
                  <a:pt x="372" y="467"/>
                </a:lnTo>
                <a:lnTo>
                  <a:pt x="366" y="474"/>
                </a:lnTo>
                <a:lnTo>
                  <a:pt x="360" y="480"/>
                </a:lnTo>
                <a:lnTo>
                  <a:pt x="353" y="486"/>
                </a:lnTo>
                <a:lnTo>
                  <a:pt x="345" y="491"/>
                </a:lnTo>
                <a:lnTo>
                  <a:pt x="337" y="497"/>
                </a:lnTo>
                <a:lnTo>
                  <a:pt x="329" y="502"/>
                </a:lnTo>
                <a:lnTo>
                  <a:pt x="321" y="507"/>
                </a:lnTo>
                <a:lnTo>
                  <a:pt x="312" y="511"/>
                </a:lnTo>
                <a:lnTo>
                  <a:pt x="294" y="519"/>
                </a:lnTo>
                <a:lnTo>
                  <a:pt x="284" y="522"/>
                </a:lnTo>
                <a:lnTo>
                  <a:pt x="274" y="525"/>
                </a:lnTo>
                <a:lnTo>
                  <a:pt x="253" y="530"/>
                </a:lnTo>
                <a:lnTo>
                  <a:pt x="242" y="532"/>
                </a:lnTo>
                <a:lnTo>
                  <a:pt x="230" y="533"/>
                </a:lnTo>
                <a:lnTo>
                  <a:pt x="219" y="535"/>
                </a:lnTo>
                <a:lnTo>
                  <a:pt x="207" y="535"/>
                </a:lnTo>
                <a:lnTo>
                  <a:pt x="194" y="536"/>
                </a:lnTo>
                <a:lnTo>
                  <a:pt x="182" y="536"/>
                </a:lnTo>
                <a:lnTo>
                  <a:pt x="159" y="536"/>
                </a:lnTo>
                <a:lnTo>
                  <a:pt x="137" y="535"/>
                </a:lnTo>
                <a:lnTo>
                  <a:pt x="116" y="534"/>
                </a:lnTo>
                <a:lnTo>
                  <a:pt x="97" y="532"/>
                </a:lnTo>
                <a:lnTo>
                  <a:pt x="77" y="529"/>
                </a:lnTo>
                <a:lnTo>
                  <a:pt x="56" y="526"/>
                </a:lnTo>
                <a:lnTo>
                  <a:pt x="34" y="522"/>
                </a:lnTo>
                <a:lnTo>
                  <a:pt x="11" y="516"/>
                </a:lnTo>
                <a:lnTo>
                  <a:pt x="11" y="411"/>
                </a:lnTo>
                <a:lnTo>
                  <a:pt x="33" y="418"/>
                </a:lnTo>
                <a:lnTo>
                  <a:pt x="54" y="424"/>
                </a:lnTo>
                <a:lnTo>
                  <a:pt x="75" y="429"/>
                </a:lnTo>
                <a:lnTo>
                  <a:pt x="95" y="433"/>
                </a:lnTo>
                <a:lnTo>
                  <a:pt x="115" y="437"/>
                </a:lnTo>
                <a:lnTo>
                  <a:pt x="134" y="439"/>
                </a:lnTo>
                <a:lnTo>
                  <a:pt x="153" y="440"/>
                </a:lnTo>
                <a:lnTo>
                  <a:pt x="171" y="441"/>
                </a:lnTo>
                <a:lnTo>
                  <a:pt x="181" y="441"/>
                </a:lnTo>
                <a:lnTo>
                  <a:pt x="191" y="440"/>
                </a:lnTo>
                <a:lnTo>
                  <a:pt x="200" y="439"/>
                </a:lnTo>
                <a:lnTo>
                  <a:pt x="209" y="438"/>
                </a:lnTo>
                <a:lnTo>
                  <a:pt x="216" y="436"/>
                </a:lnTo>
                <a:lnTo>
                  <a:pt x="223" y="434"/>
                </a:lnTo>
                <a:lnTo>
                  <a:pt x="230" y="431"/>
                </a:lnTo>
                <a:lnTo>
                  <a:pt x="233" y="430"/>
                </a:lnTo>
                <a:lnTo>
                  <a:pt x="235" y="428"/>
                </a:lnTo>
                <a:lnTo>
                  <a:pt x="240" y="425"/>
                </a:lnTo>
                <a:lnTo>
                  <a:pt x="245" y="421"/>
                </a:lnTo>
                <a:lnTo>
                  <a:pt x="249" y="417"/>
                </a:lnTo>
                <a:lnTo>
                  <a:pt x="252" y="413"/>
                </a:lnTo>
                <a:lnTo>
                  <a:pt x="254" y="408"/>
                </a:lnTo>
                <a:lnTo>
                  <a:pt x="256" y="403"/>
                </a:lnTo>
                <a:lnTo>
                  <a:pt x="257" y="397"/>
                </a:lnTo>
                <a:lnTo>
                  <a:pt x="257" y="391"/>
                </a:lnTo>
                <a:lnTo>
                  <a:pt x="256" y="385"/>
                </a:lnTo>
                <a:lnTo>
                  <a:pt x="256" y="382"/>
                </a:lnTo>
                <a:lnTo>
                  <a:pt x="255" y="379"/>
                </a:lnTo>
                <a:lnTo>
                  <a:pt x="252" y="374"/>
                </a:lnTo>
                <a:lnTo>
                  <a:pt x="248" y="369"/>
                </a:lnTo>
                <a:lnTo>
                  <a:pt x="243" y="364"/>
                </a:lnTo>
                <a:lnTo>
                  <a:pt x="237" y="359"/>
                </a:lnTo>
                <a:lnTo>
                  <a:pt x="234" y="357"/>
                </a:lnTo>
                <a:lnTo>
                  <a:pt x="230" y="355"/>
                </a:lnTo>
                <a:lnTo>
                  <a:pt x="222" y="351"/>
                </a:lnTo>
                <a:lnTo>
                  <a:pt x="116" y="306"/>
                </a:lnTo>
                <a:lnTo>
                  <a:pt x="101" y="300"/>
                </a:lnTo>
                <a:lnTo>
                  <a:pt x="88" y="293"/>
                </a:lnTo>
                <a:lnTo>
                  <a:pt x="82" y="289"/>
                </a:lnTo>
                <a:lnTo>
                  <a:pt x="76" y="285"/>
                </a:lnTo>
                <a:lnTo>
                  <a:pt x="64" y="278"/>
                </a:lnTo>
                <a:lnTo>
                  <a:pt x="54" y="269"/>
                </a:lnTo>
                <a:lnTo>
                  <a:pt x="44" y="260"/>
                </a:lnTo>
                <a:lnTo>
                  <a:pt x="36" y="251"/>
                </a:lnTo>
                <a:lnTo>
                  <a:pt x="32" y="246"/>
                </a:lnTo>
                <a:lnTo>
                  <a:pt x="28" y="242"/>
                </a:lnTo>
                <a:lnTo>
                  <a:pt x="22" y="232"/>
                </a:lnTo>
                <a:lnTo>
                  <a:pt x="16" y="222"/>
                </a:lnTo>
                <a:lnTo>
                  <a:pt x="13" y="217"/>
                </a:lnTo>
                <a:lnTo>
                  <a:pt x="11" y="212"/>
                </a:lnTo>
                <a:lnTo>
                  <a:pt x="7" y="201"/>
                </a:lnTo>
                <a:lnTo>
                  <a:pt x="4" y="190"/>
                </a:lnTo>
                <a:lnTo>
                  <a:pt x="2" y="179"/>
                </a:lnTo>
                <a:lnTo>
                  <a:pt x="1" y="167"/>
                </a:lnTo>
                <a:lnTo>
                  <a:pt x="0" y="155"/>
                </a:lnTo>
                <a:lnTo>
                  <a:pt x="0" y="146"/>
                </a:lnTo>
                <a:lnTo>
                  <a:pt x="1" y="138"/>
                </a:lnTo>
                <a:lnTo>
                  <a:pt x="2" y="130"/>
                </a:lnTo>
                <a:lnTo>
                  <a:pt x="4" y="122"/>
                </a:lnTo>
                <a:lnTo>
                  <a:pt x="6" y="114"/>
                </a:lnTo>
                <a:lnTo>
                  <a:pt x="8" y="106"/>
                </a:lnTo>
                <a:lnTo>
                  <a:pt x="11" y="99"/>
                </a:lnTo>
                <a:lnTo>
                  <a:pt x="15" y="92"/>
                </a:lnTo>
                <a:lnTo>
                  <a:pt x="19" y="85"/>
                </a:lnTo>
                <a:lnTo>
                  <a:pt x="23" y="78"/>
                </a:lnTo>
                <a:lnTo>
                  <a:pt x="28" y="72"/>
                </a:lnTo>
                <a:lnTo>
                  <a:pt x="33" y="66"/>
                </a:lnTo>
                <a:lnTo>
                  <a:pt x="39" y="60"/>
                </a:lnTo>
                <a:lnTo>
                  <a:pt x="45" y="54"/>
                </a:lnTo>
                <a:lnTo>
                  <a:pt x="59" y="43"/>
                </a:lnTo>
                <a:lnTo>
                  <a:pt x="74" y="33"/>
                </a:lnTo>
                <a:lnTo>
                  <a:pt x="82" y="28"/>
                </a:lnTo>
                <a:lnTo>
                  <a:pt x="91" y="24"/>
                </a:lnTo>
                <a:lnTo>
                  <a:pt x="100" y="20"/>
                </a:lnTo>
                <a:lnTo>
                  <a:pt x="109" y="17"/>
                </a:lnTo>
                <a:lnTo>
                  <a:pt x="118" y="14"/>
                </a:lnTo>
                <a:lnTo>
                  <a:pt x="128" y="11"/>
                </a:lnTo>
                <a:lnTo>
                  <a:pt x="148" y="6"/>
                </a:lnTo>
                <a:lnTo>
                  <a:pt x="158" y="4"/>
                </a:lnTo>
                <a:lnTo>
                  <a:pt x="169" y="3"/>
                </a:lnTo>
                <a:lnTo>
                  <a:pt x="180" y="2"/>
                </a:lnTo>
                <a:lnTo>
                  <a:pt x="192" y="1"/>
                </a:lnTo>
                <a:lnTo>
                  <a:pt x="216" y="0"/>
                </a:lnTo>
                <a:lnTo>
                  <a:pt x="232" y="1"/>
                </a:lnTo>
                <a:lnTo>
                  <a:pt x="250" y="2"/>
                </a:lnTo>
                <a:lnTo>
                  <a:pt x="268" y="3"/>
                </a:lnTo>
                <a:lnTo>
                  <a:pt x="288" y="6"/>
                </a:lnTo>
                <a:lnTo>
                  <a:pt x="308" y="8"/>
                </a:lnTo>
                <a:lnTo>
                  <a:pt x="328" y="12"/>
                </a:lnTo>
                <a:lnTo>
                  <a:pt x="347" y="15"/>
                </a:lnTo>
                <a:lnTo>
                  <a:pt x="366" y="19"/>
                </a:lnTo>
                <a:close/>
                <a:moveTo>
                  <a:pt x="631" y="10"/>
                </a:moveTo>
                <a:lnTo>
                  <a:pt x="631" y="527"/>
                </a:lnTo>
                <a:lnTo>
                  <a:pt x="476" y="527"/>
                </a:lnTo>
                <a:lnTo>
                  <a:pt x="476" y="10"/>
                </a:lnTo>
                <a:lnTo>
                  <a:pt x="631" y="10"/>
                </a:lnTo>
                <a:close/>
                <a:moveTo>
                  <a:pt x="1133" y="10"/>
                </a:moveTo>
                <a:lnTo>
                  <a:pt x="1133" y="105"/>
                </a:lnTo>
                <a:lnTo>
                  <a:pt x="902" y="105"/>
                </a:lnTo>
                <a:lnTo>
                  <a:pt x="902" y="219"/>
                </a:lnTo>
                <a:lnTo>
                  <a:pt x="1102" y="219"/>
                </a:lnTo>
                <a:lnTo>
                  <a:pt x="1102" y="306"/>
                </a:lnTo>
                <a:lnTo>
                  <a:pt x="902" y="306"/>
                </a:lnTo>
                <a:lnTo>
                  <a:pt x="902" y="427"/>
                </a:lnTo>
                <a:lnTo>
                  <a:pt x="1138" y="427"/>
                </a:lnTo>
                <a:lnTo>
                  <a:pt x="1138" y="527"/>
                </a:lnTo>
                <a:lnTo>
                  <a:pt x="752" y="527"/>
                </a:lnTo>
                <a:lnTo>
                  <a:pt x="752" y="10"/>
                </a:lnTo>
                <a:lnTo>
                  <a:pt x="1133" y="10"/>
                </a:lnTo>
                <a:close/>
                <a:moveTo>
                  <a:pt x="1859" y="10"/>
                </a:moveTo>
                <a:lnTo>
                  <a:pt x="1859" y="527"/>
                </a:lnTo>
                <a:lnTo>
                  <a:pt x="1714" y="527"/>
                </a:lnTo>
                <a:lnTo>
                  <a:pt x="1714" y="185"/>
                </a:lnTo>
                <a:lnTo>
                  <a:pt x="1563" y="531"/>
                </a:lnTo>
                <a:lnTo>
                  <a:pt x="1474" y="531"/>
                </a:lnTo>
                <a:lnTo>
                  <a:pt x="1329" y="185"/>
                </a:lnTo>
                <a:lnTo>
                  <a:pt x="1329" y="527"/>
                </a:lnTo>
                <a:lnTo>
                  <a:pt x="1224" y="527"/>
                </a:lnTo>
                <a:lnTo>
                  <a:pt x="1224" y="10"/>
                </a:lnTo>
                <a:lnTo>
                  <a:pt x="1413" y="10"/>
                </a:lnTo>
                <a:lnTo>
                  <a:pt x="1543" y="326"/>
                </a:lnTo>
                <a:lnTo>
                  <a:pt x="1678" y="10"/>
                </a:lnTo>
                <a:lnTo>
                  <a:pt x="1859" y="10"/>
                </a:lnTo>
                <a:close/>
                <a:moveTo>
                  <a:pt x="2359" y="10"/>
                </a:moveTo>
                <a:lnTo>
                  <a:pt x="2359" y="105"/>
                </a:lnTo>
                <a:lnTo>
                  <a:pt x="2130" y="105"/>
                </a:lnTo>
                <a:lnTo>
                  <a:pt x="2130" y="219"/>
                </a:lnTo>
                <a:lnTo>
                  <a:pt x="2330" y="219"/>
                </a:lnTo>
                <a:lnTo>
                  <a:pt x="2330" y="306"/>
                </a:lnTo>
                <a:lnTo>
                  <a:pt x="2130" y="306"/>
                </a:lnTo>
                <a:lnTo>
                  <a:pt x="2130" y="427"/>
                </a:lnTo>
                <a:lnTo>
                  <a:pt x="2364" y="427"/>
                </a:lnTo>
                <a:lnTo>
                  <a:pt x="2364" y="527"/>
                </a:lnTo>
                <a:lnTo>
                  <a:pt x="1979" y="527"/>
                </a:lnTo>
                <a:lnTo>
                  <a:pt x="1979" y="10"/>
                </a:lnTo>
                <a:lnTo>
                  <a:pt x="2359" y="10"/>
                </a:lnTo>
                <a:close/>
                <a:moveTo>
                  <a:pt x="2906" y="10"/>
                </a:moveTo>
                <a:lnTo>
                  <a:pt x="2906" y="527"/>
                </a:lnTo>
                <a:lnTo>
                  <a:pt x="2741" y="527"/>
                </a:lnTo>
                <a:lnTo>
                  <a:pt x="2556" y="195"/>
                </a:lnTo>
                <a:lnTo>
                  <a:pt x="2556" y="527"/>
                </a:lnTo>
                <a:lnTo>
                  <a:pt x="2450" y="527"/>
                </a:lnTo>
                <a:lnTo>
                  <a:pt x="2450" y="10"/>
                </a:lnTo>
                <a:lnTo>
                  <a:pt x="2621" y="10"/>
                </a:lnTo>
                <a:lnTo>
                  <a:pt x="2801" y="336"/>
                </a:lnTo>
                <a:lnTo>
                  <a:pt x="2801" y="10"/>
                </a:lnTo>
                <a:lnTo>
                  <a:pt x="2906" y="10"/>
                </a:lnTo>
                <a:close/>
                <a:moveTo>
                  <a:pt x="3352" y="19"/>
                </a:moveTo>
                <a:lnTo>
                  <a:pt x="3352" y="119"/>
                </a:lnTo>
                <a:lnTo>
                  <a:pt x="3333" y="112"/>
                </a:lnTo>
                <a:lnTo>
                  <a:pt x="3314" y="106"/>
                </a:lnTo>
                <a:lnTo>
                  <a:pt x="3295" y="101"/>
                </a:lnTo>
                <a:lnTo>
                  <a:pt x="3278" y="97"/>
                </a:lnTo>
                <a:lnTo>
                  <a:pt x="3260" y="94"/>
                </a:lnTo>
                <a:lnTo>
                  <a:pt x="3244" y="92"/>
                </a:lnTo>
                <a:lnTo>
                  <a:pt x="3228" y="90"/>
                </a:lnTo>
                <a:lnTo>
                  <a:pt x="3212" y="90"/>
                </a:lnTo>
                <a:lnTo>
                  <a:pt x="3203" y="90"/>
                </a:lnTo>
                <a:lnTo>
                  <a:pt x="3194" y="91"/>
                </a:lnTo>
                <a:lnTo>
                  <a:pt x="3186" y="92"/>
                </a:lnTo>
                <a:lnTo>
                  <a:pt x="3178" y="93"/>
                </a:lnTo>
                <a:lnTo>
                  <a:pt x="3171" y="95"/>
                </a:lnTo>
                <a:lnTo>
                  <a:pt x="3164" y="97"/>
                </a:lnTo>
                <a:lnTo>
                  <a:pt x="3158" y="99"/>
                </a:lnTo>
                <a:lnTo>
                  <a:pt x="3155" y="101"/>
                </a:lnTo>
                <a:lnTo>
                  <a:pt x="3152" y="102"/>
                </a:lnTo>
                <a:lnTo>
                  <a:pt x="3147" y="105"/>
                </a:lnTo>
                <a:lnTo>
                  <a:pt x="3143" y="109"/>
                </a:lnTo>
                <a:lnTo>
                  <a:pt x="3139" y="113"/>
                </a:lnTo>
                <a:lnTo>
                  <a:pt x="3138" y="115"/>
                </a:lnTo>
                <a:lnTo>
                  <a:pt x="3136" y="117"/>
                </a:lnTo>
                <a:lnTo>
                  <a:pt x="3134" y="121"/>
                </a:lnTo>
                <a:lnTo>
                  <a:pt x="3132" y="125"/>
                </a:lnTo>
                <a:lnTo>
                  <a:pt x="3131" y="130"/>
                </a:lnTo>
                <a:lnTo>
                  <a:pt x="3131" y="135"/>
                </a:lnTo>
                <a:lnTo>
                  <a:pt x="3131" y="139"/>
                </a:lnTo>
                <a:lnTo>
                  <a:pt x="3131" y="142"/>
                </a:lnTo>
                <a:lnTo>
                  <a:pt x="3132" y="146"/>
                </a:lnTo>
                <a:lnTo>
                  <a:pt x="3133" y="149"/>
                </a:lnTo>
                <a:lnTo>
                  <a:pt x="3135" y="152"/>
                </a:lnTo>
                <a:lnTo>
                  <a:pt x="3136" y="155"/>
                </a:lnTo>
                <a:lnTo>
                  <a:pt x="3138" y="158"/>
                </a:lnTo>
                <a:lnTo>
                  <a:pt x="3141" y="160"/>
                </a:lnTo>
                <a:lnTo>
                  <a:pt x="3147" y="164"/>
                </a:lnTo>
                <a:lnTo>
                  <a:pt x="3156" y="169"/>
                </a:lnTo>
                <a:lnTo>
                  <a:pt x="3167" y="174"/>
                </a:lnTo>
                <a:lnTo>
                  <a:pt x="3181" y="179"/>
                </a:lnTo>
                <a:lnTo>
                  <a:pt x="3277" y="225"/>
                </a:lnTo>
                <a:lnTo>
                  <a:pt x="3291" y="232"/>
                </a:lnTo>
                <a:lnTo>
                  <a:pt x="3304" y="239"/>
                </a:lnTo>
                <a:lnTo>
                  <a:pt x="3317" y="247"/>
                </a:lnTo>
                <a:lnTo>
                  <a:pt x="3328" y="254"/>
                </a:lnTo>
                <a:lnTo>
                  <a:pt x="3333" y="258"/>
                </a:lnTo>
                <a:lnTo>
                  <a:pt x="3338" y="262"/>
                </a:lnTo>
                <a:lnTo>
                  <a:pt x="3348" y="272"/>
                </a:lnTo>
                <a:lnTo>
                  <a:pt x="3356" y="280"/>
                </a:lnTo>
                <a:lnTo>
                  <a:pt x="3360" y="284"/>
                </a:lnTo>
                <a:lnTo>
                  <a:pt x="3364" y="289"/>
                </a:lnTo>
                <a:lnTo>
                  <a:pt x="3371" y="298"/>
                </a:lnTo>
                <a:lnTo>
                  <a:pt x="3376" y="307"/>
                </a:lnTo>
                <a:lnTo>
                  <a:pt x="3381" y="318"/>
                </a:lnTo>
                <a:lnTo>
                  <a:pt x="3385" y="328"/>
                </a:lnTo>
                <a:lnTo>
                  <a:pt x="3387" y="334"/>
                </a:lnTo>
                <a:lnTo>
                  <a:pt x="3388" y="339"/>
                </a:lnTo>
                <a:lnTo>
                  <a:pt x="3389" y="345"/>
                </a:lnTo>
                <a:lnTo>
                  <a:pt x="3390" y="351"/>
                </a:lnTo>
                <a:lnTo>
                  <a:pt x="3392" y="363"/>
                </a:lnTo>
                <a:lnTo>
                  <a:pt x="3392" y="376"/>
                </a:lnTo>
                <a:lnTo>
                  <a:pt x="3392" y="385"/>
                </a:lnTo>
                <a:lnTo>
                  <a:pt x="3391" y="393"/>
                </a:lnTo>
                <a:lnTo>
                  <a:pt x="3388" y="410"/>
                </a:lnTo>
                <a:lnTo>
                  <a:pt x="3386" y="418"/>
                </a:lnTo>
                <a:lnTo>
                  <a:pt x="3383" y="425"/>
                </a:lnTo>
                <a:lnTo>
                  <a:pt x="3380" y="433"/>
                </a:lnTo>
                <a:lnTo>
                  <a:pt x="3378" y="436"/>
                </a:lnTo>
                <a:lnTo>
                  <a:pt x="3377" y="440"/>
                </a:lnTo>
                <a:lnTo>
                  <a:pt x="3372" y="447"/>
                </a:lnTo>
                <a:lnTo>
                  <a:pt x="3368" y="454"/>
                </a:lnTo>
                <a:lnTo>
                  <a:pt x="3363" y="461"/>
                </a:lnTo>
                <a:lnTo>
                  <a:pt x="3357" y="467"/>
                </a:lnTo>
                <a:lnTo>
                  <a:pt x="3351" y="474"/>
                </a:lnTo>
                <a:lnTo>
                  <a:pt x="3344" y="480"/>
                </a:lnTo>
                <a:lnTo>
                  <a:pt x="3337" y="486"/>
                </a:lnTo>
                <a:lnTo>
                  <a:pt x="3330" y="491"/>
                </a:lnTo>
                <a:lnTo>
                  <a:pt x="3322" y="497"/>
                </a:lnTo>
                <a:lnTo>
                  <a:pt x="3314" y="502"/>
                </a:lnTo>
                <a:lnTo>
                  <a:pt x="3305" y="507"/>
                </a:lnTo>
                <a:lnTo>
                  <a:pt x="3296" y="511"/>
                </a:lnTo>
                <a:lnTo>
                  <a:pt x="3277" y="519"/>
                </a:lnTo>
                <a:lnTo>
                  <a:pt x="3268" y="522"/>
                </a:lnTo>
                <a:lnTo>
                  <a:pt x="3258" y="525"/>
                </a:lnTo>
                <a:lnTo>
                  <a:pt x="3237" y="530"/>
                </a:lnTo>
                <a:lnTo>
                  <a:pt x="3226" y="532"/>
                </a:lnTo>
                <a:lnTo>
                  <a:pt x="3214" y="533"/>
                </a:lnTo>
                <a:lnTo>
                  <a:pt x="3203" y="535"/>
                </a:lnTo>
                <a:lnTo>
                  <a:pt x="3191" y="535"/>
                </a:lnTo>
                <a:lnTo>
                  <a:pt x="3179" y="536"/>
                </a:lnTo>
                <a:lnTo>
                  <a:pt x="3166" y="536"/>
                </a:lnTo>
                <a:lnTo>
                  <a:pt x="3144" y="536"/>
                </a:lnTo>
                <a:lnTo>
                  <a:pt x="3122" y="535"/>
                </a:lnTo>
                <a:lnTo>
                  <a:pt x="3102" y="534"/>
                </a:lnTo>
                <a:lnTo>
                  <a:pt x="3082" y="532"/>
                </a:lnTo>
                <a:lnTo>
                  <a:pt x="3063" y="529"/>
                </a:lnTo>
                <a:lnTo>
                  <a:pt x="3042" y="526"/>
                </a:lnTo>
                <a:lnTo>
                  <a:pt x="3020" y="522"/>
                </a:lnTo>
                <a:lnTo>
                  <a:pt x="2996" y="516"/>
                </a:lnTo>
                <a:lnTo>
                  <a:pt x="2996" y="411"/>
                </a:lnTo>
                <a:lnTo>
                  <a:pt x="3018" y="418"/>
                </a:lnTo>
                <a:lnTo>
                  <a:pt x="3040" y="424"/>
                </a:lnTo>
                <a:lnTo>
                  <a:pt x="3060" y="429"/>
                </a:lnTo>
                <a:lnTo>
                  <a:pt x="3081" y="433"/>
                </a:lnTo>
                <a:lnTo>
                  <a:pt x="3100" y="437"/>
                </a:lnTo>
                <a:lnTo>
                  <a:pt x="3120" y="439"/>
                </a:lnTo>
                <a:lnTo>
                  <a:pt x="3138" y="440"/>
                </a:lnTo>
                <a:lnTo>
                  <a:pt x="3157" y="441"/>
                </a:lnTo>
                <a:lnTo>
                  <a:pt x="3166" y="441"/>
                </a:lnTo>
                <a:lnTo>
                  <a:pt x="3176" y="440"/>
                </a:lnTo>
                <a:lnTo>
                  <a:pt x="3184" y="439"/>
                </a:lnTo>
                <a:lnTo>
                  <a:pt x="3192" y="438"/>
                </a:lnTo>
                <a:lnTo>
                  <a:pt x="3200" y="436"/>
                </a:lnTo>
                <a:lnTo>
                  <a:pt x="3207" y="434"/>
                </a:lnTo>
                <a:lnTo>
                  <a:pt x="3213" y="431"/>
                </a:lnTo>
                <a:lnTo>
                  <a:pt x="3216" y="430"/>
                </a:lnTo>
                <a:lnTo>
                  <a:pt x="3219" y="428"/>
                </a:lnTo>
                <a:lnTo>
                  <a:pt x="3224" y="425"/>
                </a:lnTo>
                <a:lnTo>
                  <a:pt x="3227" y="423"/>
                </a:lnTo>
                <a:lnTo>
                  <a:pt x="3229" y="422"/>
                </a:lnTo>
                <a:lnTo>
                  <a:pt x="3233" y="418"/>
                </a:lnTo>
                <a:lnTo>
                  <a:pt x="3236" y="414"/>
                </a:lnTo>
                <a:lnTo>
                  <a:pt x="3238" y="410"/>
                </a:lnTo>
                <a:lnTo>
                  <a:pt x="3240" y="405"/>
                </a:lnTo>
                <a:lnTo>
                  <a:pt x="3241" y="401"/>
                </a:lnTo>
                <a:lnTo>
                  <a:pt x="3241" y="396"/>
                </a:lnTo>
                <a:lnTo>
                  <a:pt x="3241" y="389"/>
                </a:lnTo>
                <a:lnTo>
                  <a:pt x="3240" y="385"/>
                </a:lnTo>
                <a:lnTo>
                  <a:pt x="3239" y="382"/>
                </a:lnTo>
                <a:lnTo>
                  <a:pt x="3236" y="376"/>
                </a:lnTo>
                <a:lnTo>
                  <a:pt x="3233" y="370"/>
                </a:lnTo>
                <a:lnTo>
                  <a:pt x="3228" y="365"/>
                </a:lnTo>
                <a:lnTo>
                  <a:pt x="3222" y="360"/>
                </a:lnTo>
                <a:lnTo>
                  <a:pt x="3214" y="355"/>
                </a:lnTo>
                <a:lnTo>
                  <a:pt x="3206" y="351"/>
                </a:lnTo>
                <a:lnTo>
                  <a:pt x="3101" y="306"/>
                </a:lnTo>
                <a:lnTo>
                  <a:pt x="3086" y="300"/>
                </a:lnTo>
                <a:lnTo>
                  <a:pt x="3073" y="292"/>
                </a:lnTo>
                <a:lnTo>
                  <a:pt x="3060" y="285"/>
                </a:lnTo>
                <a:lnTo>
                  <a:pt x="3049" y="277"/>
                </a:lnTo>
                <a:lnTo>
                  <a:pt x="3038" y="270"/>
                </a:lnTo>
                <a:lnTo>
                  <a:pt x="3033" y="265"/>
                </a:lnTo>
                <a:lnTo>
                  <a:pt x="3029" y="260"/>
                </a:lnTo>
                <a:lnTo>
                  <a:pt x="3021" y="252"/>
                </a:lnTo>
                <a:lnTo>
                  <a:pt x="3014" y="244"/>
                </a:lnTo>
                <a:lnTo>
                  <a:pt x="3007" y="235"/>
                </a:lnTo>
                <a:lnTo>
                  <a:pt x="3002" y="225"/>
                </a:lnTo>
                <a:lnTo>
                  <a:pt x="3000" y="220"/>
                </a:lnTo>
                <a:lnTo>
                  <a:pt x="2997" y="215"/>
                </a:lnTo>
                <a:lnTo>
                  <a:pt x="2994" y="204"/>
                </a:lnTo>
                <a:lnTo>
                  <a:pt x="2991" y="193"/>
                </a:lnTo>
                <a:lnTo>
                  <a:pt x="2989" y="181"/>
                </a:lnTo>
                <a:lnTo>
                  <a:pt x="2987" y="168"/>
                </a:lnTo>
                <a:lnTo>
                  <a:pt x="2987" y="155"/>
                </a:lnTo>
                <a:lnTo>
                  <a:pt x="2987" y="146"/>
                </a:lnTo>
                <a:lnTo>
                  <a:pt x="2988" y="137"/>
                </a:lnTo>
                <a:lnTo>
                  <a:pt x="2989" y="129"/>
                </a:lnTo>
                <a:lnTo>
                  <a:pt x="2991" y="121"/>
                </a:lnTo>
                <a:lnTo>
                  <a:pt x="2993" y="113"/>
                </a:lnTo>
                <a:lnTo>
                  <a:pt x="2995" y="106"/>
                </a:lnTo>
                <a:lnTo>
                  <a:pt x="2998" y="98"/>
                </a:lnTo>
                <a:lnTo>
                  <a:pt x="3002" y="91"/>
                </a:lnTo>
                <a:lnTo>
                  <a:pt x="3005" y="84"/>
                </a:lnTo>
                <a:lnTo>
                  <a:pt x="3010" y="78"/>
                </a:lnTo>
                <a:lnTo>
                  <a:pt x="3015" y="71"/>
                </a:lnTo>
                <a:lnTo>
                  <a:pt x="3020" y="65"/>
                </a:lnTo>
                <a:lnTo>
                  <a:pt x="3025" y="59"/>
                </a:lnTo>
                <a:lnTo>
                  <a:pt x="3032" y="53"/>
                </a:lnTo>
                <a:lnTo>
                  <a:pt x="3038" y="48"/>
                </a:lnTo>
                <a:lnTo>
                  <a:pt x="3045" y="42"/>
                </a:lnTo>
                <a:lnTo>
                  <a:pt x="3053" y="37"/>
                </a:lnTo>
                <a:lnTo>
                  <a:pt x="3060" y="32"/>
                </a:lnTo>
                <a:lnTo>
                  <a:pt x="3069" y="28"/>
                </a:lnTo>
                <a:lnTo>
                  <a:pt x="3077" y="24"/>
                </a:lnTo>
                <a:lnTo>
                  <a:pt x="3095" y="17"/>
                </a:lnTo>
                <a:lnTo>
                  <a:pt x="3104" y="14"/>
                </a:lnTo>
                <a:lnTo>
                  <a:pt x="3113" y="11"/>
                </a:lnTo>
                <a:lnTo>
                  <a:pt x="3123" y="8"/>
                </a:lnTo>
                <a:lnTo>
                  <a:pt x="3134" y="6"/>
                </a:lnTo>
                <a:lnTo>
                  <a:pt x="3144" y="4"/>
                </a:lnTo>
                <a:lnTo>
                  <a:pt x="3155" y="3"/>
                </a:lnTo>
                <a:lnTo>
                  <a:pt x="3178" y="1"/>
                </a:lnTo>
                <a:lnTo>
                  <a:pt x="3201" y="0"/>
                </a:lnTo>
                <a:lnTo>
                  <a:pt x="3217" y="1"/>
                </a:lnTo>
                <a:lnTo>
                  <a:pt x="3233" y="2"/>
                </a:lnTo>
                <a:lnTo>
                  <a:pt x="3251" y="3"/>
                </a:lnTo>
                <a:lnTo>
                  <a:pt x="3269" y="6"/>
                </a:lnTo>
                <a:lnTo>
                  <a:pt x="3308" y="12"/>
                </a:lnTo>
                <a:lnTo>
                  <a:pt x="3352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41720" y="5805360"/>
            <a:ext cx="6507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2195280" y="5516280"/>
            <a:ext cx="4321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marL="39960" indent="0"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60" indent="-39960">
              <a:spcAft>
                <a:spcPts val="437"/>
              </a:spcAft>
              <a:buClr>
                <a:srgbClr val="ff9900"/>
              </a:buClr>
              <a:buSzPct val="9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9960" indent="-39960">
              <a:spcAft>
                <a:spcPts val="437"/>
              </a:spcAft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60" indent="-39960">
              <a:spcAft>
                <a:spcPts val="437"/>
              </a:spcAft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9960" indent="-39960">
              <a:spcAft>
                <a:spcPts val="437"/>
              </a:spcAft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9960" indent="-39960">
              <a:spcAft>
                <a:spcPts val="437"/>
              </a:spcAft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9960" indent="-39960">
              <a:spcAft>
                <a:spcPts val="437"/>
              </a:spcAft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465360"/>
            <a:ext cx="9144000" cy="1116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195640" y="342864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740720" y="189000"/>
            <a:ext cx="1143000" cy="179280"/>
          </a:xfrm>
          <a:custGeom>
            <a:avLst/>
            <a:gdLst/>
            <a:ahLst/>
            <a:rect l="l" t="t" r="r" b="b"/>
            <a:pathLst>
              <a:path w="3392" h="536">
                <a:moveTo>
                  <a:pt x="366" y="19"/>
                </a:moveTo>
                <a:lnTo>
                  <a:pt x="366" y="119"/>
                </a:lnTo>
                <a:lnTo>
                  <a:pt x="347" y="112"/>
                </a:lnTo>
                <a:lnTo>
                  <a:pt x="328" y="106"/>
                </a:lnTo>
                <a:lnTo>
                  <a:pt x="310" y="101"/>
                </a:lnTo>
                <a:lnTo>
                  <a:pt x="292" y="97"/>
                </a:lnTo>
                <a:lnTo>
                  <a:pt x="275" y="94"/>
                </a:lnTo>
                <a:lnTo>
                  <a:pt x="258" y="92"/>
                </a:lnTo>
                <a:lnTo>
                  <a:pt x="242" y="90"/>
                </a:lnTo>
                <a:lnTo>
                  <a:pt x="226" y="90"/>
                </a:lnTo>
                <a:lnTo>
                  <a:pt x="217" y="90"/>
                </a:lnTo>
                <a:lnTo>
                  <a:pt x="209" y="91"/>
                </a:lnTo>
                <a:lnTo>
                  <a:pt x="201" y="92"/>
                </a:lnTo>
                <a:lnTo>
                  <a:pt x="193" y="93"/>
                </a:lnTo>
                <a:lnTo>
                  <a:pt x="186" y="95"/>
                </a:lnTo>
                <a:lnTo>
                  <a:pt x="180" y="97"/>
                </a:lnTo>
                <a:lnTo>
                  <a:pt x="174" y="100"/>
                </a:lnTo>
                <a:lnTo>
                  <a:pt x="168" y="103"/>
                </a:lnTo>
                <a:lnTo>
                  <a:pt x="163" y="106"/>
                </a:lnTo>
                <a:lnTo>
                  <a:pt x="158" y="110"/>
                </a:lnTo>
                <a:lnTo>
                  <a:pt x="155" y="113"/>
                </a:lnTo>
                <a:lnTo>
                  <a:pt x="153" y="115"/>
                </a:lnTo>
                <a:lnTo>
                  <a:pt x="152" y="117"/>
                </a:lnTo>
                <a:lnTo>
                  <a:pt x="149" y="121"/>
                </a:lnTo>
                <a:lnTo>
                  <a:pt x="148" y="126"/>
                </a:lnTo>
                <a:lnTo>
                  <a:pt x="147" y="130"/>
                </a:lnTo>
                <a:lnTo>
                  <a:pt x="146" y="135"/>
                </a:lnTo>
                <a:lnTo>
                  <a:pt x="147" y="141"/>
                </a:lnTo>
                <a:lnTo>
                  <a:pt x="149" y="147"/>
                </a:lnTo>
                <a:lnTo>
                  <a:pt x="151" y="150"/>
                </a:lnTo>
                <a:lnTo>
                  <a:pt x="153" y="153"/>
                </a:lnTo>
                <a:lnTo>
                  <a:pt x="156" y="155"/>
                </a:lnTo>
                <a:lnTo>
                  <a:pt x="157" y="157"/>
                </a:lnTo>
                <a:lnTo>
                  <a:pt x="159" y="158"/>
                </a:lnTo>
                <a:lnTo>
                  <a:pt x="166" y="164"/>
                </a:lnTo>
                <a:lnTo>
                  <a:pt x="174" y="169"/>
                </a:lnTo>
                <a:lnTo>
                  <a:pt x="184" y="174"/>
                </a:lnTo>
                <a:lnTo>
                  <a:pt x="196" y="179"/>
                </a:lnTo>
                <a:lnTo>
                  <a:pt x="291" y="225"/>
                </a:lnTo>
                <a:lnTo>
                  <a:pt x="305" y="232"/>
                </a:lnTo>
                <a:lnTo>
                  <a:pt x="318" y="239"/>
                </a:lnTo>
                <a:lnTo>
                  <a:pt x="330" y="247"/>
                </a:lnTo>
                <a:lnTo>
                  <a:pt x="342" y="255"/>
                </a:lnTo>
                <a:lnTo>
                  <a:pt x="352" y="263"/>
                </a:lnTo>
                <a:lnTo>
                  <a:pt x="361" y="272"/>
                </a:lnTo>
                <a:lnTo>
                  <a:pt x="370" y="281"/>
                </a:lnTo>
                <a:lnTo>
                  <a:pt x="378" y="290"/>
                </a:lnTo>
                <a:lnTo>
                  <a:pt x="381" y="294"/>
                </a:lnTo>
                <a:lnTo>
                  <a:pt x="384" y="299"/>
                </a:lnTo>
                <a:lnTo>
                  <a:pt x="390" y="308"/>
                </a:lnTo>
                <a:lnTo>
                  <a:pt x="395" y="318"/>
                </a:lnTo>
                <a:lnTo>
                  <a:pt x="399" y="328"/>
                </a:lnTo>
                <a:lnTo>
                  <a:pt x="402" y="338"/>
                </a:lnTo>
                <a:lnTo>
                  <a:pt x="405" y="349"/>
                </a:lnTo>
                <a:lnTo>
                  <a:pt x="406" y="360"/>
                </a:lnTo>
                <a:lnTo>
                  <a:pt x="407" y="371"/>
                </a:lnTo>
                <a:lnTo>
                  <a:pt x="406" y="381"/>
                </a:lnTo>
                <a:lnTo>
                  <a:pt x="406" y="390"/>
                </a:lnTo>
                <a:lnTo>
                  <a:pt x="404" y="398"/>
                </a:lnTo>
                <a:lnTo>
                  <a:pt x="403" y="407"/>
                </a:lnTo>
                <a:lnTo>
                  <a:pt x="401" y="415"/>
                </a:lnTo>
                <a:lnTo>
                  <a:pt x="398" y="423"/>
                </a:lnTo>
                <a:lnTo>
                  <a:pt x="395" y="431"/>
                </a:lnTo>
                <a:lnTo>
                  <a:pt x="391" y="439"/>
                </a:lnTo>
                <a:lnTo>
                  <a:pt x="387" y="446"/>
                </a:lnTo>
                <a:lnTo>
                  <a:pt x="383" y="453"/>
                </a:lnTo>
                <a:lnTo>
                  <a:pt x="378" y="460"/>
                </a:lnTo>
                <a:lnTo>
                  <a:pt x="372" y="467"/>
                </a:lnTo>
                <a:lnTo>
                  <a:pt x="366" y="474"/>
                </a:lnTo>
                <a:lnTo>
                  <a:pt x="360" y="480"/>
                </a:lnTo>
                <a:lnTo>
                  <a:pt x="353" y="486"/>
                </a:lnTo>
                <a:lnTo>
                  <a:pt x="345" y="491"/>
                </a:lnTo>
                <a:lnTo>
                  <a:pt x="337" y="497"/>
                </a:lnTo>
                <a:lnTo>
                  <a:pt x="329" y="502"/>
                </a:lnTo>
                <a:lnTo>
                  <a:pt x="321" y="507"/>
                </a:lnTo>
                <a:lnTo>
                  <a:pt x="312" y="511"/>
                </a:lnTo>
                <a:lnTo>
                  <a:pt x="294" y="519"/>
                </a:lnTo>
                <a:lnTo>
                  <a:pt x="284" y="522"/>
                </a:lnTo>
                <a:lnTo>
                  <a:pt x="274" y="525"/>
                </a:lnTo>
                <a:lnTo>
                  <a:pt x="253" y="530"/>
                </a:lnTo>
                <a:lnTo>
                  <a:pt x="242" y="532"/>
                </a:lnTo>
                <a:lnTo>
                  <a:pt x="230" y="533"/>
                </a:lnTo>
                <a:lnTo>
                  <a:pt x="219" y="535"/>
                </a:lnTo>
                <a:lnTo>
                  <a:pt x="207" y="535"/>
                </a:lnTo>
                <a:lnTo>
                  <a:pt x="194" y="536"/>
                </a:lnTo>
                <a:lnTo>
                  <a:pt x="182" y="536"/>
                </a:lnTo>
                <a:lnTo>
                  <a:pt x="159" y="536"/>
                </a:lnTo>
                <a:lnTo>
                  <a:pt x="137" y="535"/>
                </a:lnTo>
                <a:lnTo>
                  <a:pt x="116" y="534"/>
                </a:lnTo>
                <a:lnTo>
                  <a:pt x="97" y="532"/>
                </a:lnTo>
                <a:lnTo>
                  <a:pt x="77" y="529"/>
                </a:lnTo>
                <a:lnTo>
                  <a:pt x="56" y="526"/>
                </a:lnTo>
                <a:lnTo>
                  <a:pt x="34" y="522"/>
                </a:lnTo>
                <a:lnTo>
                  <a:pt x="11" y="516"/>
                </a:lnTo>
                <a:lnTo>
                  <a:pt x="11" y="411"/>
                </a:lnTo>
                <a:lnTo>
                  <a:pt x="33" y="418"/>
                </a:lnTo>
                <a:lnTo>
                  <a:pt x="54" y="424"/>
                </a:lnTo>
                <a:lnTo>
                  <a:pt x="75" y="429"/>
                </a:lnTo>
                <a:lnTo>
                  <a:pt x="95" y="433"/>
                </a:lnTo>
                <a:lnTo>
                  <a:pt x="115" y="437"/>
                </a:lnTo>
                <a:lnTo>
                  <a:pt x="134" y="439"/>
                </a:lnTo>
                <a:lnTo>
                  <a:pt x="153" y="440"/>
                </a:lnTo>
                <a:lnTo>
                  <a:pt x="171" y="441"/>
                </a:lnTo>
                <a:lnTo>
                  <a:pt x="181" y="441"/>
                </a:lnTo>
                <a:lnTo>
                  <a:pt x="191" y="440"/>
                </a:lnTo>
                <a:lnTo>
                  <a:pt x="200" y="439"/>
                </a:lnTo>
                <a:lnTo>
                  <a:pt x="209" y="438"/>
                </a:lnTo>
                <a:lnTo>
                  <a:pt x="216" y="436"/>
                </a:lnTo>
                <a:lnTo>
                  <a:pt x="223" y="434"/>
                </a:lnTo>
                <a:lnTo>
                  <a:pt x="230" y="431"/>
                </a:lnTo>
                <a:lnTo>
                  <a:pt x="233" y="430"/>
                </a:lnTo>
                <a:lnTo>
                  <a:pt x="235" y="428"/>
                </a:lnTo>
                <a:lnTo>
                  <a:pt x="240" y="425"/>
                </a:lnTo>
                <a:lnTo>
                  <a:pt x="245" y="421"/>
                </a:lnTo>
                <a:lnTo>
                  <a:pt x="249" y="417"/>
                </a:lnTo>
                <a:lnTo>
                  <a:pt x="252" y="413"/>
                </a:lnTo>
                <a:lnTo>
                  <a:pt x="254" y="408"/>
                </a:lnTo>
                <a:lnTo>
                  <a:pt x="256" y="403"/>
                </a:lnTo>
                <a:lnTo>
                  <a:pt x="257" y="397"/>
                </a:lnTo>
                <a:lnTo>
                  <a:pt x="257" y="391"/>
                </a:lnTo>
                <a:lnTo>
                  <a:pt x="256" y="385"/>
                </a:lnTo>
                <a:lnTo>
                  <a:pt x="256" y="382"/>
                </a:lnTo>
                <a:lnTo>
                  <a:pt x="255" y="379"/>
                </a:lnTo>
                <a:lnTo>
                  <a:pt x="252" y="374"/>
                </a:lnTo>
                <a:lnTo>
                  <a:pt x="248" y="369"/>
                </a:lnTo>
                <a:lnTo>
                  <a:pt x="243" y="364"/>
                </a:lnTo>
                <a:lnTo>
                  <a:pt x="237" y="359"/>
                </a:lnTo>
                <a:lnTo>
                  <a:pt x="234" y="357"/>
                </a:lnTo>
                <a:lnTo>
                  <a:pt x="230" y="355"/>
                </a:lnTo>
                <a:lnTo>
                  <a:pt x="222" y="351"/>
                </a:lnTo>
                <a:lnTo>
                  <a:pt x="116" y="306"/>
                </a:lnTo>
                <a:lnTo>
                  <a:pt x="101" y="300"/>
                </a:lnTo>
                <a:lnTo>
                  <a:pt x="88" y="293"/>
                </a:lnTo>
                <a:lnTo>
                  <a:pt x="82" y="289"/>
                </a:lnTo>
                <a:lnTo>
                  <a:pt x="76" y="285"/>
                </a:lnTo>
                <a:lnTo>
                  <a:pt x="64" y="278"/>
                </a:lnTo>
                <a:lnTo>
                  <a:pt x="54" y="269"/>
                </a:lnTo>
                <a:lnTo>
                  <a:pt x="44" y="260"/>
                </a:lnTo>
                <a:lnTo>
                  <a:pt x="36" y="251"/>
                </a:lnTo>
                <a:lnTo>
                  <a:pt x="32" y="246"/>
                </a:lnTo>
                <a:lnTo>
                  <a:pt x="28" y="242"/>
                </a:lnTo>
                <a:lnTo>
                  <a:pt x="22" y="232"/>
                </a:lnTo>
                <a:lnTo>
                  <a:pt x="16" y="222"/>
                </a:lnTo>
                <a:lnTo>
                  <a:pt x="13" y="217"/>
                </a:lnTo>
                <a:lnTo>
                  <a:pt x="11" y="212"/>
                </a:lnTo>
                <a:lnTo>
                  <a:pt x="7" y="201"/>
                </a:lnTo>
                <a:lnTo>
                  <a:pt x="4" y="190"/>
                </a:lnTo>
                <a:lnTo>
                  <a:pt x="2" y="179"/>
                </a:lnTo>
                <a:lnTo>
                  <a:pt x="1" y="167"/>
                </a:lnTo>
                <a:lnTo>
                  <a:pt x="0" y="155"/>
                </a:lnTo>
                <a:lnTo>
                  <a:pt x="0" y="146"/>
                </a:lnTo>
                <a:lnTo>
                  <a:pt x="1" y="138"/>
                </a:lnTo>
                <a:lnTo>
                  <a:pt x="2" y="130"/>
                </a:lnTo>
                <a:lnTo>
                  <a:pt x="4" y="122"/>
                </a:lnTo>
                <a:lnTo>
                  <a:pt x="6" y="114"/>
                </a:lnTo>
                <a:lnTo>
                  <a:pt x="8" y="106"/>
                </a:lnTo>
                <a:lnTo>
                  <a:pt x="11" y="99"/>
                </a:lnTo>
                <a:lnTo>
                  <a:pt x="15" y="92"/>
                </a:lnTo>
                <a:lnTo>
                  <a:pt x="19" y="85"/>
                </a:lnTo>
                <a:lnTo>
                  <a:pt x="23" y="78"/>
                </a:lnTo>
                <a:lnTo>
                  <a:pt x="28" y="72"/>
                </a:lnTo>
                <a:lnTo>
                  <a:pt x="33" y="66"/>
                </a:lnTo>
                <a:lnTo>
                  <a:pt x="39" y="60"/>
                </a:lnTo>
                <a:lnTo>
                  <a:pt x="45" y="54"/>
                </a:lnTo>
                <a:lnTo>
                  <a:pt x="59" y="43"/>
                </a:lnTo>
                <a:lnTo>
                  <a:pt x="74" y="33"/>
                </a:lnTo>
                <a:lnTo>
                  <a:pt x="82" y="28"/>
                </a:lnTo>
                <a:lnTo>
                  <a:pt x="91" y="24"/>
                </a:lnTo>
                <a:lnTo>
                  <a:pt x="100" y="20"/>
                </a:lnTo>
                <a:lnTo>
                  <a:pt x="109" y="17"/>
                </a:lnTo>
                <a:lnTo>
                  <a:pt x="118" y="14"/>
                </a:lnTo>
                <a:lnTo>
                  <a:pt x="128" y="11"/>
                </a:lnTo>
                <a:lnTo>
                  <a:pt x="148" y="6"/>
                </a:lnTo>
                <a:lnTo>
                  <a:pt x="158" y="4"/>
                </a:lnTo>
                <a:lnTo>
                  <a:pt x="169" y="3"/>
                </a:lnTo>
                <a:lnTo>
                  <a:pt x="180" y="2"/>
                </a:lnTo>
                <a:lnTo>
                  <a:pt x="192" y="1"/>
                </a:lnTo>
                <a:lnTo>
                  <a:pt x="216" y="0"/>
                </a:lnTo>
                <a:lnTo>
                  <a:pt x="232" y="1"/>
                </a:lnTo>
                <a:lnTo>
                  <a:pt x="250" y="2"/>
                </a:lnTo>
                <a:lnTo>
                  <a:pt x="268" y="3"/>
                </a:lnTo>
                <a:lnTo>
                  <a:pt x="288" y="6"/>
                </a:lnTo>
                <a:lnTo>
                  <a:pt x="308" y="8"/>
                </a:lnTo>
                <a:lnTo>
                  <a:pt x="328" y="12"/>
                </a:lnTo>
                <a:lnTo>
                  <a:pt x="347" y="15"/>
                </a:lnTo>
                <a:lnTo>
                  <a:pt x="366" y="19"/>
                </a:lnTo>
                <a:close/>
                <a:moveTo>
                  <a:pt x="631" y="10"/>
                </a:moveTo>
                <a:lnTo>
                  <a:pt x="631" y="527"/>
                </a:lnTo>
                <a:lnTo>
                  <a:pt x="476" y="527"/>
                </a:lnTo>
                <a:lnTo>
                  <a:pt x="476" y="10"/>
                </a:lnTo>
                <a:lnTo>
                  <a:pt x="631" y="10"/>
                </a:lnTo>
                <a:close/>
                <a:moveTo>
                  <a:pt x="1133" y="10"/>
                </a:moveTo>
                <a:lnTo>
                  <a:pt x="1133" y="105"/>
                </a:lnTo>
                <a:lnTo>
                  <a:pt x="902" y="105"/>
                </a:lnTo>
                <a:lnTo>
                  <a:pt x="902" y="219"/>
                </a:lnTo>
                <a:lnTo>
                  <a:pt x="1102" y="219"/>
                </a:lnTo>
                <a:lnTo>
                  <a:pt x="1102" y="306"/>
                </a:lnTo>
                <a:lnTo>
                  <a:pt x="902" y="306"/>
                </a:lnTo>
                <a:lnTo>
                  <a:pt x="902" y="427"/>
                </a:lnTo>
                <a:lnTo>
                  <a:pt x="1138" y="427"/>
                </a:lnTo>
                <a:lnTo>
                  <a:pt x="1138" y="527"/>
                </a:lnTo>
                <a:lnTo>
                  <a:pt x="752" y="527"/>
                </a:lnTo>
                <a:lnTo>
                  <a:pt x="752" y="10"/>
                </a:lnTo>
                <a:lnTo>
                  <a:pt x="1133" y="10"/>
                </a:lnTo>
                <a:close/>
                <a:moveTo>
                  <a:pt x="1859" y="10"/>
                </a:moveTo>
                <a:lnTo>
                  <a:pt x="1859" y="527"/>
                </a:lnTo>
                <a:lnTo>
                  <a:pt x="1714" y="527"/>
                </a:lnTo>
                <a:lnTo>
                  <a:pt x="1714" y="185"/>
                </a:lnTo>
                <a:lnTo>
                  <a:pt x="1563" y="531"/>
                </a:lnTo>
                <a:lnTo>
                  <a:pt x="1474" y="531"/>
                </a:lnTo>
                <a:lnTo>
                  <a:pt x="1329" y="185"/>
                </a:lnTo>
                <a:lnTo>
                  <a:pt x="1329" y="527"/>
                </a:lnTo>
                <a:lnTo>
                  <a:pt x="1224" y="527"/>
                </a:lnTo>
                <a:lnTo>
                  <a:pt x="1224" y="10"/>
                </a:lnTo>
                <a:lnTo>
                  <a:pt x="1413" y="10"/>
                </a:lnTo>
                <a:lnTo>
                  <a:pt x="1543" y="326"/>
                </a:lnTo>
                <a:lnTo>
                  <a:pt x="1678" y="10"/>
                </a:lnTo>
                <a:lnTo>
                  <a:pt x="1859" y="10"/>
                </a:lnTo>
                <a:close/>
                <a:moveTo>
                  <a:pt x="2359" y="10"/>
                </a:moveTo>
                <a:lnTo>
                  <a:pt x="2359" y="105"/>
                </a:lnTo>
                <a:lnTo>
                  <a:pt x="2130" y="105"/>
                </a:lnTo>
                <a:lnTo>
                  <a:pt x="2130" y="219"/>
                </a:lnTo>
                <a:lnTo>
                  <a:pt x="2330" y="219"/>
                </a:lnTo>
                <a:lnTo>
                  <a:pt x="2330" y="306"/>
                </a:lnTo>
                <a:lnTo>
                  <a:pt x="2130" y="306"/>
                </a:lnTo>
                <a:lnTo>
                  <a:pt x="2130" y="427"/>
                </a:lnTo>
                <a:lnTo>
                  <a:pt x="2364" y="427"/>
                </a:lnTo>
                <a:lnTo>
                  <a:pt x="2364" y="527"/>
                </a:lnTo>
                <a:lnTo>
                  <a:pt x="1979" y="527"/>
                </a:lnTo>
                <a:lnTo>
                  <a:pt x="1979" y="10"/>
                </a:lnTo>
                <a:lnTo>
                  <a:pt x="2359" y="10"/>
                </a:lnTo>
                <a:close/>
                <a:moveTo>
                  <a:pt x="2906" y="10"/>
                </a:moveTo>
                <a:lnTo>
                  <a:pt x="2906" y="527"/>
                </a:lnTo>
                <a:lnTo>
                  <a:pt x="2741" y="527"/>
                </a:lnTo>
                <a:lnTo>
                  <a:pt x="2556" y="195"/>
                </a:lnTo>
                <a:lnTo>
                  <a:pt x="2556" y="527"/>
                </a:lnTo>
                <a:lnTo>
                  <a:pt x="2450" y="527"/>
                </a:lnTo>
                <a:lnTo>
                  <a:pt x="2450" y="10"/>
                </a:lnTo>
                <a:lnTo>
                  <a:pt x="2621" y="10"/>
                </a:lnTo>
                <a:lnTo>
                  <a:pt x="2801" y="336"/>
                </a:lnTo>
                <a:lnTo>
                  <a:pt x="2801" y="10"/>
                </a:lnTo>
                <a:lnTo>
                  <a:pt x="2906" y="10"/>
                </a:lnTo>
                <a:close/>
                <a:moveTo>
                  <a:pt x="3352" y="19"/>
                </a:moveTo>
                <a:lnTo>
                  <a:pt x="3352" y="119"/>
                </a:lnTo>
                <a:lnTo>
                  <a:pt x="3333" y="112"/>
                </a:lnTo>
                <a:lnTo>
                  <a:pt x="3314" y="106"/>
                </a:lnTo>
                <a:lnTo>
                  <a:pt x="3295" y="101"/>
                </a:lnTo>
                <a:lnTo>
                  <a:pt x="3278" y="97"/>
                </a:lnTo>
                <a:lnTo>
                  <a:pt x="3260" y="94"/>
                </a:lnTo>
                <a:lnTo>
                  <a:pt x="3244" y="92"/>
                </a:lnTo>
                <a:lnTo>
                  <a:pt x="3228" y="90"/>
                </a:lnTo>
                <a:lnTo>
                  <a:pt x="3212" y="90"/>
                </a:lnTo>
                <a:lnTo>
                  <a:pt x="3203" y="90"/>
                </a:lnTo>
                <a:lnTo>
                  <a:pt x="3194" y="91"/>
                </a:lnTo>
                <a:lnTo>
                  <a:pt x="3186" y="92"/>
                </a:lnTo>
                <a:lnTo>
                  <a:pt x="3178" y="93"/>
                </a:lnTo>
                <a:lnTo>
                  <a:pt x="3171" y="95"/>
                </a:lnTo>
                <a:lnTo>
                  <a:pt x="3164" y="97"/>
                </a:lnTo>
                <a:lnTo>
                  <a:pt x="3158" y="99"/>
                </a:lnTo>
                <a:lnTo>
                  <a:pt x="3155" y="101"/>
                </a:lnTo>
                <a:lnTo>
                  <a:pt x="3152" y="102"/>
                </a:lnTo>
                <a:lnTo>
                  <a:pt x="3147" y="105"/>
                </a:lnTo>
                <a:lnTo>
                  <a:pt x="3143" y="109"/>
                </a:lnTo>
                <a:lnTo>
                  <a:pt x="3139" y="113"/>
                </a:lnTo>
                <a:lnTo>
                  <a:pt x="3138" y="115"/>
                </a:lnTo>
                <a:lnTo>
                  <a:pt x="3136" y="117"/>
                </a:lnTo>
                <a:lnTo>
                  <a:pt x="3134" y="121"/>
                </a:lnTo>
                <a:lnTo>
                  <a:pt x="3132" y="125"/>
                </a:lnTo>
                <a:lnTo>
                  <a:pt x="3131" y="130"/>
                </a:lnTo>
                <a:lnTo>
                  <a:pt x="3131" y="135"/>
                </a:lnTo>
                <a:lnTo>
                  <a:pt x="3131" y="139"/>
                </a:lnTo>
                <a:lnTo>
                  <a:pt x="3131" y="142"/>
                </a:lnTo>
                <a:lnTo>
                  <a:pt x="3132" y="146"/>
                </a:lnTo>
                <a:lnTo>
                  <a:pt x="3133" y="149"/>
                </a:lnTo>
                <a:lnTo>
                  <a:pt x="3135" y="152"/>
                </a:lnTo>
                <a:lnTo>
                  <a:pt x="3136" y="155"/>
                </a:lnTo>
                <a:lnTo>
                  <a:pt x="3138" y="158"/>
                </a:lnTo>
                <a:lnTo>
                  <a:pt x="3141" y="160"/>
                </a:lnTo>
                <a:lnTo>
                  <a:pt x="3147" y="164"/>
                </a:lnTo>
                <a:lnTo>
                  <a:pt x="3156" y="169"/>
                </a:lnTo>
                <a:lnTo>
                  <a:pt x="3167" y="174"/>
                </a:lnTo>
                <a:lnTo>
                  <a:pt x="3181" y="179"/>
                </a:lnTo>
                <a:lnTo>
                  <a:pt x="3277" y="225"/>
                </a:lnTo>
                <a:lnTo>
                  <a:pt x="3291" y="232"/>
                </a:lnTo>
                <a:lnTo>
                  <a:pt x="3304" y="239"/>
                </a:lnTo>
                <a:lnTo>
                  <a:pt x="3317" y="247"/>
                </a:lnTo>
                <a:lnTo>
                  <a:pt x="3328" y="254"/>
                </a:lnTo>
                <a:lnTo>
                  <a:pt x="3333" y="258"/>
                </a:lnTo>
                <a:lnTo>
                  <a:pt x="3338" y="262"/>
                </a:lnTo>
                <a:lnTo>
                  <a:pt x="3348" y="272"/>
                </a:lnTo>
                <a:lnTo>
                  <a:pt x="3356" y="280"/>
                </a:lnTo>
                <a:lnTo>
                  <a:pt x="3360" y="284"/>
                </a:lnTo>
                <a:lnTo>
                  <a:pt x="3364" y="289"/>
                </a:lnTo>
                <a:lnTo>
                  <a:pt x="3371" y="298"/>
                </a:lnTo>
                <a:lnTo>
                  <a:pt x="3376" y="307"/>
                </a:lnTo>
                <a:lnTo>
                  <a:pt x="3381" y="318"/>
                </a:lnTo>
                <a:lnTo>
                  <a:pt x="3385" y="328"/>
                </a:lnTo>
                <a:lnTo>
                  <a:pt x="3387" y="334"/>
                </a:lnTo>
                <a:lnTo>
                  <a:pt x="3388" y="339"/>
                </a:lnTo>
                <a:lnTo>
                  <a:pt x="3389" y="345"/>
                </a:lnTo>
                <a:lnTo>
                  <a:pt x="3390" y="351"/>
                </a:lnTo>
                <a:lnTo>
                  <a:pt x="3392" y="363"/>
                </a:lnTo>
                <a:lnTo>
                  <a:pt x="3392" y="376"/>
                </a:lnTo>
                <a:lnTo>
                  <a:pt x="3392" y="385"/>
                </a:lnTo>
                <a:lnTo>
                  <a:pt x="3391" y="393"/>
                </a:lnTo>
                <a:lnTo>
                  <a:pt x="3388" y="410"/>
                </a:lnTo>
                <a:lnTo>
                  <a:pt x="3386" y="418"/>
                </a:lnTo>
                <a:lnTo>
                  <a:pt x="3383" y="425"/>
                </a:lnTo>
                <a:lnTo>
                  <a:pt x="3380" y="433"/>
                </a:lnTo>
                <a:lnTo>
                  <a:pt x="3378" y="436"/>
                </a:lnTo>
                <a:lnTo>
                  <a:pt x="3377" y="440"/>
                </a:lnTo>
                <a:lnTo>
                  <a:pt x="3372" y="447"/>
                </a:lnTo>
                <a:lnTo>
                  <a:pt x="3368" y="454"/>
                </a:lnTo>
                <a:lnTo>
                  <a:pt x="3363" y="461"/>
                </a:lnTo>
                <a:lnTo>
                  <a:pt x="3357" y="467"/>
                </a:lnTo>
                <a:lnTo>
                  <a:pt x="3351" y="474"/>
                </a:lnTo>
                <a:lnTo>
                  <a:pt x="3344" y="480"/>
                </a:lnTo>
                <a:lnTo>
                  <a:pt x="3337" y="486"/>
                </a:lnTo>
                <a:lnTo>
                  <a:pt x="3330" y="491"/>
                </a:lnTo>
                <a:lnTo>
                  <a:pt x="3322" y="497"/>
                </a:lnTo>
                <a:lnTo>
                  <a:pt x="3314" y="502"/>
                </a:lnTo>
                <a:lnTo>
                  <a:pt x="3305" y="507"/>
                </a:lnTo>
                <a:lnTo>
                  <a:pt x="3296" y="511"/>
                </a:lnTo>
                <a:lnTo>
                  <a:pt x="3277" y="519"/>
                </a:lnTo>
                <a:lnTo>
                  <a:pt x="3268" y="522"/>
                </a:lnTo>
                <a:lnTo>
                  <a:pt x="3258" y="525"/>
                </a:lnTo>
                <a:lnTo>
                  <a:pt x="3237" y="530"/>
                </a:lnTo>
                <a:lnTo>
                  <a:pt x="3226" y="532"/>
                </a:lnTo>
                <a:lnTo>
                  <a:pt x="3214" y="533"/>
                </a:lnTo>
                <a:lnTo>
                  <a:pt x="3203" y="535"/>
                </a:lnTo>
                <a:lnTo>
                  <a:pt x="3191" y="535"/>
                </a:lnTo>
                <a:lnTo>
                  <a:pt x="3179" y="536"/>
                </a:lnTo>
                <a:lnTo>
                  <a:pt x="3166" y="536"/>
                </a:lnTo>
                <a:lnTo>
                  <a:pt x="3144" y="536"/>
                </a:lnTo>
                <a:lnTo>
                  <a:pt x="3122" y="535"/>
                </a:lnTo>
                <a:lnTo>
                  <a:pt x="3102" y="534"/>
                </a:lnTo>
                <a:lnTo>
                  <a:pt x="3082" y="532"/>
                </a:lnTo>
                <a:lnTo>
                  <a:pt x="3063" y="529"/>
                </a:lnTo>
                <a:lnTo>
                  <a:pt x="3042" y="526"/>
                </a:lnTo>
                <a:lnTo>
                  <a:pt x="3020" y="522"/>
                </a:lnTo>
                <a:lnTo>
                  <a:pt x="2996" y="516"/>
                </a:lnTo>
                <a:lnTo>
                  <a:pt x="2996" y="411"/>
                </a:lnTo>
                <a:lnTo>
                  <a:pt x="3018" y="418"/>
                </a:lnTo>
                <a:lnTo>
                  <a:pt x="3040" y="424"/>
                </a:lnTo>
                <a:lnTo>
                  <a:pt x="3060" y="429"/>
                </a:lnTo>
                <a:lnTo>
                  <a:pt x="3081" y="433"/>
                </a:lnTo>
                <a:lnTo>
                  <a:pt x="3100" y="437"/>
                </a:lnTo>
                <a:lnTo>
                  <a:pt x="3120" y="439"/>
                </a:lnTo>
                <a:lnTo>
                  <a:pt x="3138" y="440"/>
                </a:lnTo>
                <a:lnTo>
                  <a:pt x="3157" y="441"/>
                </a:lnTo>
                <a:lnTo>
                  <a:pt x="3166" y="441"/>
                </a:lnTo>
                <a:lnTo>
                  <a:pt x="3176" y="440"/>
                </a:lnTo>
                <a:lnTo>
                  <a:pt x="3184" y="439"/>
                </a:lnTo>
                <a:lnTo>
                  <a:pt x="3192" y="438"/>
                </a:lnTo>
                <a:lnTo>
                  <a:pt x="3200" y="436"/>
                </a:lnTo>
                <a:lnTo>
                  <a:pt x="3207" y="434"/>
                </a:lnTo>
                <a:lnTo>
                  <a:pt x="3213" y="431"/>
                </a:lnTo>
                <a:lnTo>
                  <a:pt x="3216" y="430"/>
                </a:lnTo>
                <a:lnTo>
                  <a:pt x="3219" y="428"/>
                </a:lnTo>
                <a:lnTo>
                  <a:pt x="3224" y="425"/>
                </a:lnTo>
                <a:lnTo>
                  <a:pt x="3227" y="423"/>
                </a:lnTo>
                <a:lnTo>
                  <a:pt x="3229" y="422"/>
                </a:lnTo>
                <a:lnTo>
                  <a:pt x="3233" y="418"/>
                </a:lnTo>
                <a:lnTo>
                  <a:pt x="3236" y="414"/>
                </a:lnTo>
                <a:lnTo>
                  <a:pt x="3238" y="410"/>
                </a:lnTo>
                <a:lnTo>
                  <a:pt x="3240" y="405"/>
                </a:lnTo>
                <a:lnTo>
                  <a:pt x="3241" y="401"/>
                </a:lnTo>
                <a:lnTo>
                  <a:pt x="3241" y="396"/>
                </a:lnTo>
                <a:lnTo>
                  <a:pt x="3241" y="389"/>
                </a:lnTo>
                <a:lnTo>
                  <a:pt x="3240" y="385"/>
                </a:lnTo>
                <a:lnTo>
                  <a:pt x="3239" y="382"/>
                </a:lnTo>
                <a:lnTo>
                  <a:pt x="3236" y="376"/>
                </a:lnTo>
                <a:lnTo>
                  <a:pt x="3233" y="370"/>
                </a:lnTo>
                <a:lnTo>
                  <a:pt x="3228" y="365"/>
                </a:lnTo>
                <a:lnTo>
                  <a:pt x="3222" y="360"/>
                </a:lnTo>
                <a:lnTo>
                  <a:pt x="3214" y="355"/>
                </a:lnTo>
                <a:lnTo>
                  <a:pt x="3206" y="351"/>
                </a:lnTo>
                <a:lnTo>
                  <a:pt x="3101" y="306"/>
                </a:lnTo>
                <a:lnTo>
                  <a:pt x="3086" y="300"/>
                </a:lnTo>
                <a:lnTo>
                  <a:pt x="3073" y="292"/>
                </a:lnTo>
                <a:lnTo>
                  <a:pt x="3060" y="285"/>
                </a:lnTo>
                <a:lnTo>
                  <a:pt x="3049" y="277"/>
                </a:lnTo>
                <a:lnTo>
                  <a:pt x="3038" y="270"/>
                </a:lnTo>
                <a:lnTo>
                  <a:pt x="3033" y="265"/>
                </a:lnTo>
                <a:lnTo>
                  <a:pt x="3029" y="260"/>
                </a:lnTo>
                <a:lnTo>
                  <a:pt x="3021" y="252"/>
                </a:lnTo>
                <a:lnTo>
                  <a:pt x="3014" y="244"/>
                </a:lnTo>
                <a:lnTo>
                  <a:pt x="3007" y="235"/>
                </a:lnTo>
                <a:lnTo>
                  <a:pt x="3002" y="225"/>
                </a:lnTo>
                <a:lnTo>
                  <a:pt x="3000" y="220"/>
                </a:lnTo>
                <a:lnTo>
                  <a:pt x="2997" y="215"/>
                </a:lnTo>
                <a:lnTo>
                  <a:pt x="2994" y="204"/>
                </a:lnTo>
                <a:lnTo>
                  <a:pt x="2991" y="193"/>
                </a:lnTo>
                <a:lnTo>
                  <a:pt x="2989" y="181"/>
                </a:lnTo>
                <a:lnTo>
                  <a:pt x="2987" y="168"/>
                </a:lnTo>
                <a:lnTo>
                  <a:pt x="2987" y="155"/>
                </a:lnTo>
                <a:lnTo>
                  <a:pt x="2987" y="146"/>
                </a:lnTo>
                <a:lnTo>
                  <a:pt x="2988" y="137"/>
                </a:lnTo>
                <a:lnTo>
                  <a:pt x="2989" y="129"/>
                </a:lnTo>
                <a:lnTo>
                  <a:pt x="2991" y="121"/>
                </a:lnTo>
                <a:lnTo>
                  <a:pt x="2993" y="113"/>
                </a:lnTo>
                <a:lnTo>
                  <a:pt x="2995" y="106"/>
                </a:lnTo>
                <a:lnTo>
                  <a:pt x="2998" y="98"/>
                </a:lnTo>
                <a:lnTo>
                  <a:pt x="3002" y="91"/>
                </a:lnTo>
                <a:lnTo>
                  <a:pt x="3005" y="84"/>
                </a:lnTo>
                <a:lnTo>
                  <a:pt x="3010" y="78"/>
                </a:lnTo>
                <a:lnTo>
                  <a:pt x="3015" y="71"/>
                </a:lnTo>
                <a:lnTo>
                  <a:pt x="3020" y="65"/>
                </a:lnTo>
                <a:lnTo>
                  <a:pt x="3025" y="59"/>
                </a:lnTo>
                <a:lnTo>
                  <a:pt x="3032" y="53"/>
                </a:lnTo>
                <a:lnTo>
                  <a:pt x="3038" y="48"/>
                </a:lnTo>
                <a:lnTo>
                  <a:pt x="3045" y="42"/>
                </a:lnTo>
                <a:lnTo>
                  <a:pt x="3053" y="37"/>
                </a:lnTo>
                <a:lnTo>
                  <a:pt x="3060" y="32"/>
                </a:lnTo>
                <a:lnTo>
                  <a:pt x="3069" y="28"/>
                </a:lnTo>
                <a:lnTo>
                  <a:pt x="3077" y="24"/>
                </a:lnTo>
                <a:lnTo>
                  <a:pt x="3095" y="17"/>
                </a:lnTo>
                <a:lnTo>
                  <a:pt x="3104" y="14"/>
                </a:lnTo>
                <a:lnTo>
                  <a:pt x="3113" y="11"/>
                </a:lnTo>
                <a:lnTo>
                  <a:pt x="3123" y="8"/>
                </a:lnTo>
                <a:lnTo>
                  <a:pt x="3134" y="6"/>
                </a:lnTo>
                <a:lnTo>
                  <a:pt x="3144" y="4"/>
                </a:lnTo>
                <a:lnTo>
                  <a:pt x="3155" y="3"/>
                </a:lnTo>
                <a:lnTo>
                  <a:pt x="3178" y="1"/>
                </a:lnTo>
                <a:lnTo>
                  <a:pt x="3201" y="0"/>
                </a:lnTo>
                <a:lnTo>
                  <a:pt x="3217" y="1"/>
                </a:lnTo>
                <a:lnTo>
                  <a:pt x="3233" y="2"/>
                </a:lnTo>
                <a:lnTo>
                  <a:pt x="3251" y="3"/>
                </a:lnTo>
                <a:lnTo>
                  <a:pt x="3269" y="6"/>
                </a:lnTo>
                <a:lnTo>
                  <a:pt x="3308" y="12"/>
                </a:lnTo>
                <a:lnTo>
                  <a:pt x="3352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5118" t="0" r="0" b="0"/>
          <a:stretch/>
        </p:blipFill>
        <p:spPr>
          <a:xfrm>
            <a:off x="0" y="0"/>
            <a:ext cx="2133720" cy="164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533520"/>
            <a:ext cx="1333440" cy="632448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528040" y="6524640"/>
            <a:ext cx="6159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391D-F78D-4799-A76A-494105E6B210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8000" y="6562800"/>
            <a:ext cx="1143000" cy="179280"/>
          </a:xfrm>
          <a:custGeom>
            <a:avLst/>
            <a:gdLst/>
            <a:ahLst/>
            <a:rect l="l" t="t" r="r" b="b"/>
            <a:pathLst>
              <a:path w="3392" h="536">
                <a:moveTo>
                  <a:pt x="366" y="19"/>
                </a:moveTo>
                <a:lnTo>
                  <a:pt x="366" y="119"/>
                </a:lnTo>
                <a:lnTo>
                  <a:pt x="347" y="112"/>
                </a:lnTo>
                <a:lnTo>
                  <a:pt x="328" y="106"/>
                </a:lnTo>
                <a:lnTo>
                  <a:pt x="310" y="101"/>
                </a:lnTo>
                <a:lnTo>
                  <a:pt x="292" y="97"/>
                </a:lnTo>
                <a:lnTo>
                  <a:pt x="275" y="94"/>
                </a:lnTo>
                <a:lnTo>
                  <a:pt x="258" y="92"/>
                </a:lnTo>
                <a:lnTo>
                  <a:pt x="242" y="90"/>
                </a:lnTo>
                <a:lnTo>
                  <a:pt x="226" y="90"/>
                </a:lnTo>
                <a:lnTo>
                  <a:pt x="217" y="90"/>
                </a:lnTo>
                <a:lnTo>
                  <a:pt x="209" y="91"/>
                </a:lnTo>
                <a:lnTo>
                  <a:pt x="201" y="92"/>
                </a:lnTo>
                <a:lnTo>
                  <a:pt x="193" y="93"/>
                </a:lnTo>
                <a:lnTo>
                  <a:pt x="186" y="95"/>
                </a:lnTo>
                <a:lnTo>
                  <a:pt x="180" y="97"/>
                </a:lnTo>
                <a:lnTo>
                  <a:pt x="174" y="100"/>
                </a:lnTo>
                <a:lnTo>
                  <a:pt x="168" y="103"/>
                </a:lnTo>
                <a:lnTo>
                  <a:pt x="163" y="106"/>
                </a:lnTo>
                <a:lnTo>
                  <a:pt x="158" y="110"/>
                </a:lnTo>
                <a:lnTo>
                  <a:pt x="155" y="113"/>
                </a:lnTo>
                <a:lnTo>
                  <a:pt x="153" y="115"/>
                </a:lnTo>
                <a:lnTo>
                  <a:pt x="152" y="117"/>
                </a:lnTo>
                <a:lnTo>
                  <a:pt x="149" y="121"/>
                </a:lnTo>
                <a:lnTo>
                  <a:pt x="148" y="126"/>
                </a:lnTo>
                <a:lnTo>
                  <a:pt x="147" y="130"/>
                </a:lnTo>
                <a:lnTo>
                  <a:pt x="146" y="135"/>
                </a:lnTo>
                <a:lnTo>
                  <a:pt x="147" y="141"/>
                </a:lnTo>
                <a:lnTo>
                  <a:pt x="149" y="147"/>
                </a:lnTo>
                <a:lnTo>
                  <a:pt x="151" y="150"/>
                </a:lnTo>
                <a:lnTo>
                  <a:pt x="153" y="153"/>
                </a:lnTo>
                <a:lnTo>
                  <a:pt x="156" y="155"/>
                </a:lnTo>
                <a:lnTo>
                  <a:pt x="157" y="157"/>
                </a:lnTo>
                <a:lnTo>
                  <a:pt x="159" y="158"/>
                </a:lnTo>
                <a:lnTo>
                  <a:pt x="166" y="164"/>
                </a:lnTo>
                <a:lnTo>
                  <a:pt x="174" y="169"/>
                </a:lnTo>
                <a:lnTo>
                  <a:pt x="184" y="174"/>
                </a:lnTo>
                <a:lnTo>
                  <a:pt x="196" y="179"/>
                </a:lnTo>
                <a:lnTo>
                  <a:pt x="291" y="225"/>
                </a:lnTo>
                <a:lnTo>
                  <a:pt x="305" y="232"/>
                </a:lnTo>
                <a:lnTo>
                  <a:pt x="318" y="239"/>
                </a:lnTo>
                <a:lnTo>
                  <a:pt x="330" y="247"/>
                </a:lnTo>
                <a:lnTo>
                  <a:pt x="342" y="255"/>
                </a:lnTo>
                <a:lnTo>
                  <a:pt x="352" y="263"/>
                </a:lnTo>
                <a:lnTo>
                  <a:pt x="361" y="272"/>
                </a:lnTo>
                <a:lnTo>
                  <a:pt x="370" y="281"/>
                </a:lnTo>
                <a:lnTo>
                  <a:pt x="378" y="290"/>
                </a:lnTo>
                <a:lnTo>
                  <a:pt x="381" y="294"/>
                </a:lnTo>
                <a:lnTo>
                  <a:pt x="384" y="299"/>
                </a:lnTo>
                <a:lnTo>
                  <a:pt x="390" y="308"/>
                </a:lnTo>
                <a:lnTo>
                  <a:pt x="395" y="318"/>
                </a:lnTo>
                <a:lnTo>
                  <a:pt x="399" y="328"/>
                </a:lnTo>
                <a:lnTo>
                  <a:pt x="402" y="338"/>
                </a:lnTo>
                <a:lnTo>
                  <a:pt x="405" y="349"/>
                </a:lnTo>
                <a:lnTo>
                  <a:pt x="406" y="360"/>
                </a:lnTo>
                <a:lnTo>
                  <a:pt x="407" y="371"/>
                </a:lnTo>
                <a:lnTo>
                  <a:pt x="406" y="381"/>
                </a:lnTo>
                <a:lnTo>
                  <a:pt x="406" y="390"/>
                </a:lnTo>
                <a:lnTo>
                  <a:pt x="404" y="398"/>
                </a:lnTo>
                <a:lnTo>
                  <a:pt x="403" y="407"/>
                </a:lnTo>
                <a:lnTo>
                  <a:pt x="401" y="415"/>
                </a:lnTo>
                <a:lnTo>
                  <a:pt x="398" y="423"/>
                </a:lnTo>
                <a:lnTo>
                  <a:pt x="395" y="431"/>
                </a:lnTo>
                <a:lnTo>
                  <a:pt x="391" y="439"/>
                </a:lnTo>
                <a:lnTo>
                  <a:pt x="387" y="446"/>
                </a:lnTo>
                <a:lnTo>
                  <a:pt x="383" y="453"/>
                </a:lnTo>
                <a:lnTo>
                  <a:pt x="378" y="460"/>
                </a:lnTo>
                <a:lnTo>
                  <a:pt x="372" y="467"/>
                </a:lnTo>
                <a:lnTo>
                  <a:pt x="366" y="474"/>
                </a:lnTo>
                <a:lnTo>
                  <a:pt x="360" y="480"/>
                </a:lnTo>
                <a:lnTo>
                  <a:pt x="353" y="486"/>
                </a:lnTo>
                <a:lnTo>
                  <a:pt x="345" y="491"/>
                </a:lnTo>
                <a:lnTo>
                  <a:pt x="337" y="497"/>
                </a:lnTo>
                <a:lnTo>
                  <a:pt x="329" y="502"/>
                </a:lnTo>
                <a:lnTo>
                  <a:pt x="321" y="507"/>
                </a:lnTo>
                <a:lnTo>
                  <a:pt x="312" y="511"/>
                </a:lnTo>
                <a:lnTo>
                  <a:pt x="294" y="519"/>
                </a:lnTo>
                <a:lnTo>
                  <a:pt x="284" y="522"/>
                </a:lnTo>
                <a:lnTo>
                  <a:pt x="274" y="525"/>
                </a:lnTo>
                <a:lnTo>
                  <a:pt x="253" y="530"/>
                </a:lnTo>
                <a:lnTo>
                  <a:pt x="242" y="532"/>
                </a:lnTo>
                <a:lnTo>
                  <a:pt x="230" y="533"/>
                </a:lnTo>
                <a:lnTo>
                  <a:pt x="219" y="535"/>
                </a:lnTo>
                <a:lnTo>
                  <a:pt x="207" y="535"/>
                </a:lnTo>
                <a:lnTo>
                  <a:pt x="194" y="536"/>
                </a:lnTo>
                <a:lnTo>
                  <a:pt x="182" y="536"/>
                </a:lnTo>
                <a:lnTo>
                  <a:pt x="159" y="536"/>
                </a:lnTo>
                <a:lnTo>
                  <a:pt x="137" y="535"/>
                </a:lnTo>
                <a:lnTo>
                  <a:pt x="116" y="534"/>
                </a:lnTo>
                <a:lnTo>
                  <a:pt x="97" y="532"/>
                </a:lnTo>
                <a:lnTo>
                  <a:pt x="77" y="529"/>
                </a:lnTo>
                <a:lnTo>
                  <a:pt x="56" y="526"/>
                </a:lnTo>
                <a:lnTo>
                  <a:pt x="34" y="522"/>
                </a:lnTo>
                <a:lnTo>
                  <a:pt x="11" y="516"/>
                </a:lnTo>
                <a:lnTo>
                  <a:pt x="11" y="411"/>
                </a:lnTo>
                <a:lnTo>
                  <a:pt x="33" y="418"/>
                </a:lnTo>
                <a:lnTo>
                  <a:pt x="54" y="424"/>
                </a:lnTo>
                <a:lnTo>
                  <a:pt x="75" y="429"/>
                </a:lnTo>
                <a:lnTo>
                  <a:pt x="95" y="433"/>
                </a:lnTo>
                <a:lnTo>
                  <a:pt x="115" y="437"/>
                </a:lnTo>
                <a:lnTo>
                  <a:pt x="134" y="439"/>
                </a:lnTo>
                <a:lnTo>
                  <a:pt x="153" y="440"/>
                </a:lnTo>
                <a:lnTo>
                  <a:pt x="171" y="441"/>
                </a:lnTo>
                <a:lnTo>
                  <a:pt x="181" y="441"/>
                </a:lnTo>
                <a:lnTo>
                  <a:pt x="191" y="440"/>
                </a:lnTo>
                <a:lnTo>
                  <a:pt x="200" y="439"/>
                </a:lnTo>
                <a:lnTo>
                  <a:pt x="209" y="438"/>
                </a:lnTo>
                <a:lnTo>
                  <a:pt x="216" y="436"/>
                </a:lnTo>
                <a:lnTo>
                  <a:pt x="223" y="434"/>
                </a:lnTo>
                <a:lnTo>
                  <a:pt x="230" y="431"/>
                </a:lnTo>
                <a:lnTo>
                  <a:pt x="233" y="430"/>
                </a:lnTo>
                <a:lnTo>
                  <a:pt x="235" y="428"/>
                </a:lnTo>
                <a:lnTo>
                  <a:pt x="240" y="425"/>
                </a:lnTo>
                <a:lnTo>
                  <a:pt x="245" y="421"/>
                </a:lnTo>
                <a:lnTo>
                  <a:pt x="249" y="417"/>
                </a:lnTo>
                <a:lnTo>
                  <a:pt x="252" y="413"/>
                </a:lnTo>
                <a:lnTo>
                  <a:pt x="254" y="408"/>
                </a:lnTo>
                <a:lnTo>
                  <a:pt x="256" y="403"/>
                </a:lnTo>
                <a:lnTo>
                  <a:pt x="257" y="397"/>
                </a:lnTo>
                <a:lnTo>
                  <a:pt x="257" y="391"/>
                </a:lnTo>
                <a:lnTo>
                  <a:pt x="256" y="385"/>
                </a:lnTo>
                <a:lnTo>
                  <a:pt x="256" y="382"/>
                </a:lnTo>
                <a:lnTo>
                  <a:pt x="255" y="379"/>
                </a:lnTo>
                <a:lnTo>
                  <a:pt x="252" y="374"/>
                </a:lnTo>
                <a:lnTo>
                  <a:pt x="248" y="369"/>
                </a:lnTo>
                <a:lnTo>
                  <a:pt x="243" y="364"/>
                </a:lnTo>
                <a:lnTo>
                  <a:pt x="237" y="359"/>
                </a:lnTo>
                <a:lnTo>
                  <a:pt x="234" y="357"/>
                </a:lnTo>
                <a:lnTo>
                  <a:pt x="230" y="355"/>
                </a:lnTo>
                <a:lnTo>
                  <a:pt x="222" y="351"/>
                </a:lnTo>
                <a:lnTo>
                  <a:pt x="116" y="306"/>
                </a:lnTo>
                <a:lnTo>
                  <a:pt x="101" y="300"/>
                </a:lnTo>
                <a:lnTo>
                  <a:pt x="88" y="293"/>
                </a:lnTo>
                <a:lnTo>
                  <a:pt x="82" y="289"/>
                </a:lnTo>
                <a:lnTo>
                  <a:pt x="76" y="285"/>
                </a:lnTo>
                <a:lnTo>
                  <a:pt x="64" y="278"/>
                </a:lnTo>
                <a:lnTo>
                  <a:pt x="54" y="269"/>
                </a:lnTo>
                <a:lnTo>
                  <a:pt x="44" y="260"/>
                </a:lnTo>
                <a:lnTo>
                  <a:pt x="36" y="251"/>
                </a:lnTo>
                <a:lnTo>
                  <a:pt x="32" y="246"/>
                </a:lnTo>
                <a:lnTo>
                  <a:pt x="28" y="242"/>
                </a:lnTo>
                <a:lnTo>
                  <a:pt x="22" y="232"/>
                </a:lnTo>
                <a:lnTo>
                  <a:pt x="16" y="222"/>
                </a:lnTo>
                <a:lnTo>
                  <a:pt x="13" y="217"/>
                </a:lnTo>
                <a:lnTo>
                  <a:pt x="11" y="212"/>
                </a:lnTo>
                <a:lnTo>
                  <a:pt x="7" y="201"/>
                </a:lnTo>
                <a:lnTo>
                  <a:pt x="4" y="190"/>
                </a:lnTo>
                <a:lnTo>
                  <a:pt x="2" y="179"/>
                </a:lnTo>
                <a:lnTo>
                  <a:pt x="1" y="167"/>
                </a:lnTo>
                <a:lnTo>
                  <a:pt x="0" y="155"/>
                </a:lnTo>
                <a:lnTo>
                  <a:pt x="0" y="146"/>
                </a:lnTo>
                <a:lnTo>
                  <a:pt x="1" y="138"/>
                </a:lnTo>
                <a:lnTo>
                  <a:pt x="2" y="130"/>
                </a:lnTo>
                <a:lnTo>
                  <a:pt x="4" y="122"/>
                </a:lnTo>
                <a:lnTo>
                  <a:pt x="6" y="114"/>
                </a:lnTo>
                <a:lnTo>
                  <a:pt x="8" y="106"/>
                </a:lnTo>
                <a:lnTo>
                  <a:pt x="11" y="99"/>
                </a:lnTo>
                <a:lnTo>
                  <a:pt x="15" y="92"/>
                </a:lnTo>
                <a:lnTo>
                  <a:pt x="19" y="85"/>
                </a:lnTo>
                <a:lnTo>
                  <a:pt x="23" y="78"/>
                </a:lnTo>
                <a:lnTo>
                  <a:pt x="28" y="72"/>
                </a:lnTo>
                <a:lnTo>
                  <a:pt x="33" y="66"/>
                </a:lnTo>
                <a:lnTo>
                  <a:pt x="39" y="60"/>
                </a:lnTo>
                <a:lnTo>
                  <a:pt x="45" y="54"/>
                </a:lnTo>
                <a:lnTo>
                  <a:pt x="59" y="43"/>
                </a:lnTo>
                <a:lnTo>
                  <a:pt x="74" y="33"/>
                </a:lnTo>
                <a:lnTo>
                  <a:pt x="82" y="28"/>
                </a:lnTo>
                <a:lnTo>
                  <a:pt x="91" y="24"/>
                </a:lnTo>
                <a:lnTo>
                  <a:pt x="100" y="20"/>
                </a:lnTo>
                <a:lnTo>
                  <a:pt x="109" y="17"/>
                </a:lnTo>
                <a:lnTo>
                  <a:pt x="118" y="14"/>
                </a:lnTo>
                <a:lnTo>
                  <a:pt x="128" y="11"/>
                </a:lnTo>
                <a:lnTo>
                  <a:pt x="148" y="6"/>
                </a:lnTo>
                <a:lnTo>
                  <a:pt x="158" y="4"/>
                </a:lnTo>
                <a:lnTo>
                  <a:pt x="169" y="3"/>
                </a:lnTo>
                <a:lnTo>
                  <a:pt x="180" y="2"/>
                </a:lnTo>
                <a:lnTo>
                  <a:pt x="192" y="1"/>
                </a:lnTo>
                <a:lnTo>
                  <a:pt x="216" y="0"/>
                </a:lnTo>
                <a:lnTo>
                  <a:pt x="232" y="1"/>
                </a:lnTo>
                <a:lnTo>
                  <a:pt x="250" y="2"/>
                </a:lnTo>
                <a:lnTo>
                  <a:pt x="268" y="3"/>
                </a:lnTo>
                <a:lnTo>
                  <a:pt x="288" y="6"/>
                </a:lnTo>
                <a:lnTo>
                  <a:pt x="308" y="8"/>
                </a:lnTo>
                <a:lnTo>
                  <a:pt x="328" y="12"/>
                </a:lnTo>
                <a:lnTo>
                  <a:pt x="347" y="15"/>
                </a:lnTo>
                <a:lnTo>
                  <a:pt x="366" y="19"/>
                </a:lnTo>
                <a:close/>
                <a:moveTo>
                  <a:pt x="631" y="10"/>
                </a:moveTo>
                <a:lnTo>
                  <a:pt x="631" y="527"/>
                </a:lnTo>
                <a:lnTo>
                  <a:pt x="476" y="527"/>
                </a:lnTo>
                <a:lnTo>
                  <a:pt x="476" y="10"/>
                </a:lnTo>
                <a:lnTo>
                  <a:pt x="631" y="10"/>
                </a:lnTo>
                <a:close/>
                <a:moveTo>
                  <a:pt x="1133" y="10"/>
                </a:moveTo>
                <a:lnTo>
                  <a:pt x="1133" y="105"/>
                </a:lnTo>
                <a:lnTo>
                  <a:pt x="902" y="105"/>
                </a:lnTo>
                <a:lnTo>
                  <a:pt x="902" y="219"/>
                </a:lnTo>
                <a:lnTo>
                  <a:pt x="1102" y="219"/>
                </a:lnTo>
                <a:lnTo>
                  <a:pt x="1102" y="306"/>
                </a:lnTo>
                <a:lnTo>
                  <a:pt x="902" y="306"/>
                </a:lnTo>
                <a:lnTo>
                  <a:pt x="902" y="427"/>
                </a:lnTo>
                <a:lnTo>
                  <a:pt x="1138" y="427"/>
                </a:lnTo>
                <a:lnTo>
                  <a:pt x="1138" y="527"/>
                </a:lnTo>
                <a:lnTo>
                  <a:pt x="752" y="527"/>
                </a:lnTo>
                <a:lnTo>
                  <a:pt x="752" y="10"/>
                </a:lnTo>
                <a:lnTo>
                  <a:pt x="1133" y="10"/>
                </a:lnTo>
                <a:close/>
                <a:moveTo>
                  <a:pt x="1859" y="10"/>
                </a:moveTo>
                <a:lnTo>
                  <a:pt x="1859" y="527"/>
                </a:lnTo>
                <a:lnTo>
                  <a:pt x="1714" y="527"/>
                </a:lnTo>
                <a:lnTo>
                  <a:pt x="1714" y="185"/>
                </a:lnTo>
                <a:lnTo>
                  <a:pt x="1563" y="531"/>
                </a:lnTo>
                <a:lnTo>
                  <a:pt x="1474" y="531"/>
                </a:lnTo>
                <a:lnTo>
                  <a:pt x="1329" y="185"/>
                </a:lnTo>
                <a:lnTo>
                  <a:pt x="1329" y="527"/>
                </a:lnTo>
                <a:lnTo>
                  <a:pt x="1224" y="527"/>
                </a:lnTo>
                <a:lnTo>
                  <a:pt x="1224" y="10"/>
                </a:lnTo>
                <a:lnTo>
                  <a:pt x="1413" y="10"/>
                </a:lnTo>
                <a:lnTo>
                  <a:pt x="1543" y="326"/>
                </a:lnTo>
                <a:lnTo>
                  <a:pt x="1678" y="10"/>
                </a:lnTo>
                <a:lnTo>
                  <a:pt x="1859" y="10"/>
                </a:lnTo>
                <a:close/>
                <a:moveTo>
                  <a:pt x="2359" y="10"/>
                </a:moveTo>
                <a:lnTo>
                  <a:pt x="2359" y="105"/>
                </a:lnTo>
                <a:lnTo>
                  <a:pt x="2130" y="105"/>
                </a:lnTo>
                <a:lnTo>
                  <a:pt x="2130" y="219"/>
                </a:lnTo>
                <a:lnTo>
                  <a:pt x="2330" y="219"/>
                </a:lnTo>
                <a:lnTo>
                  <a:pt x="2330" y="306"/>
                </a:lnTo>
                <a:lnTo>
                  <a:pt x="2130" y="306"/>
                </a:lnTo>
                <a:lnTo>
                  <a:pt x="2130" y="427"/>
                </a:lnTo>
                <a:lnTo>
                  <a:pt x="2364" y="427"/>
                </a:lnTo>
                <a:lnTo>
                  <a:pt x="2364" y="527"/>
                </a:lnTo>
                <a:lnTo>
                  <a:pt x="1979" y="527"/>
                </a:lnTo>
                <a:lnTo>
                  <a:pt x="1979" y="10"/>
                </a:lnTo>
                <a:lnTo>
                  <a:pt x="2359" y="10"/>
                </a:lnTo>
                <a:close/>
                <a:moveTo>
                  <a:pt x="2906" y="10"/>
                </a:moveTo>
                <a:lnTo>
                  <a:pt x="2906" y="527"/>
                </a:lnTo>
                <a:lnTo>
                  <a:pt x="2741" y="527"/>
                </a:lnTo>
                <a:lnTo>
                  <a:pt x="2556" y="195"/>
                </a:lnTo>
                <a:lnTo>
                  <a:pt x="2556" y="527"/>
                </a:lnTo>
                <a:lnTo>
                  <a:pt x="2450" y="527"/>
                </a:lnTo>
                <a:lnTo>
                  <a:pt x="2450" y="10"/>
                </a:lnTo>
                <a:lnTo>
                  <a:pt x="2621" y="10"/>
                </a:lnTo>
                <a:lnTo>
                  <a:pt x="2801" y="336"/>
                </a:lnTo>
                <a:lnTo>
                  <a:pt x="2801" y="10"/>
                </a:lnTo>
                <a:lnTo>
                  <a:pt x="2906" y="10"/>
                </a:lnTo>
                <a:close/>
                <a:moveTo>
                  <a:pt x="3352" y="19"/>
                </a:moveTo>
                <a:lnTo>
                  <a:pt x="3352" y="119"/>
                </a:lnTo>
                <a:lnTo>
                  <a:pt x="3333" y="112"/>
                </a:lnTo>
                <a:lnTo>
                  <a:pt x="3314" y="106"/>
                </a:lnTo>
                <a:lnTo>
                  <a:pt x="3295" y="101"/>
                </a:lnTo>
                <a:lnTo>
                  <a:pt x="3278" y="97"/>
                </a:lnTo>
                <a:lnTo>
                  <a:pt x="3260" y="94"/>
                </a:lnTo>
                <a:lnTo>
                  <a:pt x="3244" y="92"/>
                </a:lnTo>
                <a:lnTo>
                  <a:pt x="3228" y="90"/>
                </a:lnTo>
                <a:lnTo>
                  <a:pt x="3212" y="90"/>
                </a:lnTo>
                <a:lnTo>
                  <a:pt x="3203" y="90"/>
                </a:lnTo>
                <a:lnTo>
                  <a:pt x="3194" y="91"/>
                </a:lnTo>
                <a:lnTo>
                  <a:pt x="3186" y="92"/>
                </a:lnTo>
                <a:lnTo>
                  <a:pt x="3178" y="93"/>
                </a:lnTo>
                <a:lnTo>
                  <a:pt x="3171" y="95"/>
                </a:lnTo>
                <a:lnTo>
                  <a:pt x="3164" y="97"/>
                </a:lnTo>
                <a:lnTo>
                  <a:pt x="3158" y="99"/>
                </a:lnTo>
                <a:lnTo>
                  <a:pt x="3155" y="101"/>
                </a:lnTo>
                <a:lnTo>
                  <a:pt x="3152" y="102"/>
                </a:lnTo>
                <a:lnTo>
                  <a:pt x="3147" y="105"/>
                </a:lnTo>
                <a:lnTo>
                  <a:pt x="3143" y="109"/>
                </a:lnTo>
                <a:lnTo>
                  <a:pt x="3139" y="113"/>
                </a:lnTo>
                <a:lnTo>
                  <a:pt x="3138" y="115"/>
                </a:lnTo>
                <a:lnTo>
                  <a:pt x="3136" y="117"/>
                </a:lnTo>
                <a:lnTo>
                  <a:pt x="3134" y="121"/>
                </a:lnTo>
                <a:lnTo>
                  <a:pt x="3132" y="125"/>
                </a:lnTo>
                <a:lnTo>
                  <a:pt x="3131" y="130"/>
                </a:lnTo>
                <a:lnTo>
                  <a:pt x="3131" y="135"/>
                </a:lnTo>
                <a:lnTo>
                  <a:pt x="3131" y="139"/>
                </a:lnTo>
                <a:lnTo>
                  <a:pt x="3131" y="142"/>
                </a:lnTo>
                <a:lnTo>
                  <a:pt x="3132" y="146"/>
                </a:lnTo>
                <a:lnTo>
                  <a:pt x="3133" y="149"/>
                </a:lnTo>
                <a:lnTo>
                  <a:pt x="3135" y="152"/>
                </a:lnTo>
                <a:lnTo>
                  <a:pt x="3136" y="155"/>
                </a:lnTo>
                <a:lnTo>
                  <a:pt x="3138" y="158"/>
                </a:lnTo>
                <a:lnTo>
                  <a:pt x="3141" y="160"/>
                </a:lnTo>
                <a:lnTo>
                  <a:pt x="3147" y="164"/>
                </a:lnTo>
                <a:lnTo>
                  <a:pt x="3156" y="169"/>
                </a:lnTo>
                <a:lnTo>
                  <a:pt x="3167" y="174"/>
                </a:lnTo>
                <a:lnTo>
                  <a:pt x="3181" y="179"/>
                </a:lnTo>
                <a:lnTo>
                  <a:pt x="3277" y="225"/>
                </a:lnTo>
                <a:lnTo>
                  <a:pt x="3291" y="232"/>
                </a:lnTo>
                <a:lnTo>
                  <a:pt x="3304" y="239"/>
                </a:lnTo>
                <a:lnTo>
                  <a:pt x="3317" y="247"/>
                </a:lnTo>
                <a:lnTo>
                  <a:pt x="3328" y="254"/>
                </a:lnTo>
                <a:lnTo>
                  <a:pt x="3333" y="258"/>
                </a:lnTo>
                <a:lnTo>
                  <a:pt x="3338" y="262"/>
                </a:lnTo>
                <a:lnTo>
                  <a:pt x="3348" y="272"/>
                </a:lnTo>
                <a:lnTo>
                  <a:pt x="3356" y="280"/>
                </a:lnTo>
                <a:lnTo>
                  <a:pt x="3360" y="284"/>
                </a:lnTo>
                <a:lnTo>
                  <a:pt x="3364" y="289"/>
                </a:lnTo>
                <a:lnTo>
                  <a:pt x="3371" y="298"/>
                </a:lnTo>
                <a:lnTo>
                  <a:pt x="3376" y="307"/>
                </a:lnTo>
                <a:lnTo>
                  <a:pt x="3381" y="318"/>
                </a:lnTo>
                <a:lnTo>
                  <a:pt x="3385" y="328"/>
                </a:lnTo>
                <a:lnTo>
                  <a:pt x="3387" y="334"/>
                </a:lnTo>
                <a:lnTo>
                  <a:pt x="3388" y="339"/>
                </a:lnTo>
                <a:lnTo>
                  <a:pt x="3389" y="345"/>
                </a:lnTo>
                <a:lnTo>
                  <a:pt x="3390" y="351"/>
                </a:lnTo>
                <a:lnTo>
                  <a:pt x="3392" y="363"/>
                </a:lnTo>
                <a:lnTo>
                  <a:pt x="3392" y="376"/>
                </a:lnTo>
                <a:lnTo>
                  <a:pt x="3392" y="385"/>
                </a:lnTo>
                <a:lnTo>
                  <a:pt x="3391" y="393"/>
                </a:lnTo>
                <a:lnTo>
                  <a:pt x="3388" y="410"/>
                </a:lnTo>
                <a:lnTo>
                  <a:pt x="3386" y="418"/>
                </a:lnTo>
                <a:lnTo>
                  <a:pt x="3383" y="425"/>
                </a:lnTo>
                <a:lnTo>
                  <a:pt x="3380" y="433"/>
                </a:lnTo>
                <a:lnTo>
                  <a:pt x="3378" y="436"/>
                </a:lnTo>
                <a:lnTo>
                  <a:pt x="3377" y="440"/>
                </a:lnTo>
                <a:lnTo>
                  <a:pt x="3372" y="447"/>
                </a:lnTo>
                <a:lnTo>
                  <a:pt x="3368" y="454"/>
                </a:lnTo>
                <a:lnTo>
                  <a:pt x="3363" y="461"/>
                </a:lnTo>
                <a:lnTo>
                  <a:pt x="3357" y="467"/>
                </a:lnTo>
                <a:lnTo>
                  <a:pt x="3351" y="474"/>
                </a:lnTo>
                <a:lnTo>
                  <a:pt x="3344" y="480"/>
                </a:lnTo>
                <a:lnTo>
                  <a:pt x="3337" y="486"/>
                </a:lnTo>
                <a:lnTo>
                  <a:pt x="3330" y="491"/>
                </a:lnTo>
                <a:lnTo>
                  <a:pt x="3322" y="497"/>
                </a:lnTo>
                <a:lnTo>
                  <a:pt x="3314" y="502"/>
                </a:lnTo>
                <a:lnTo>
                  <a:pt x="3305" y="507"/>
                </a:lnTo>
                <a:lnTo>
                  <a:pt x="3296" y="511"/>
                </a:lnTo>
                <a:lnTo>
                  <a:pt x="3277" y="519"/>
                </a:lnTo>
                <a:lnTo>
                  <a:pt x="3268" y="522"/>
                </a:lnTo>
                <a:lnTo>
                  <a:pt x="3258" y="525"/>
                </a:lnTo>
                <a:lnTo>
                  <a:pt x="3237" y="530"/>
                </a:lnTo>
                <a:lnTo>
                  <a:pt x="3226" y="532"/>
                </a:lnTo>
                <a:lnTo>
                  <a:pt x="3214" y="533"/>
                </a:lnTo>
                <a:lnTo>
                  <a:pt x="3203" y="535"/>
                </a:lnTo>
                <a:lnTo>
                  <a:pt x="3191" y="535"/>
                </a:lnTo>
                <a:lnTo>
                  <a:pt x="3179" y="536"/>
                </a:lnTo>
                <a:lnTo>
                  <a:pt x="3166" y="536"/>
                </a:lnTo>
                <a:lnTo>
                  <a:pt x="3144" y="536"/>
                </a:lnTo>
                <a:lnTo>
                  <a:pt x="3122" y="535"/>
                </a:lnTo>
                <a:lnTo>
                  <a:pt x="3102" y="534"/>
                </a:lnTo>
                <a:lnTo>
                  <a:pt x="3082" y="532"/>
                </a:lnTo>
                <a:lnTo>
                  <a:pt x="3063" y="529"/>
                </a:lnTo>
                <a:lnTo>
                  <a:pt x="3042" y="526"/>
                </a:lnTo>
                <a:lnTo>
                  <a:pt x="3020" y="522"/>
                </a:lnTo>
                <a:lnTo>
                  <a:pt x="2996" y="516"/>
                </a:lnTo>
                <a:lnTo>
                  <a:pt x="2996" y="411"/>
                </a:lnTo>
                <a:lnTo>
                  <a:pt x="3018" y="418"/>
                </a:lnTo>
                <a:lnTo>
                  <a:pt x="3040" y="424"/>
                </a:lnTo>
                <a:lnTo>
                  <a:pt x="3060" y="429"/>
                </a:lnTo>
                <a:lnTo>
                  <a:pt x="3081" y="433"/>
                </a:lnTo>
                <a:lnTo>
                  <a:pt x="3100" y="437"/>
                </a:lnTo>
                <a:lnTo>
                  <a:pt x="3120" y="439"/>
                </a:lnTo>
                <a:lnTo>
                  <a:pt x="3138" y="440"/>
                </a:lnTo>
                <a:lnTo>
                  <a:pt x="3157" y="441"/>
                </a:lnTo>
                <a:lnTo>
                  <a:pt x="3166" y="441"/>
                </a:lnTo>
                <a:lnTo>
                  <a:pt x="3176" y="440"/>
                </a:lnTo>
                <a:lnTo>
                  <a:pt x="3184" y="439"/>
                </a:lnTo>
                <a:lnTo>
                  <a:pt x="3192" y="438"/>
                </a:lnTo>
                <a:lnTo>
                  <a:pt x="3200" y="436"/>
                </a:lnTo>
                <a:lnTo>
                  <a:pt x="3207" y="434"/>
                </a:lnTo>
                <a:lnTo>
                  <a:pt x="3213" y="431"/>
                </a:lnTo>
                <a:lnTo>
                  <a:pt x="3216" y="430"/>
                </a:lnTo>
                <a:lnTo>
                  <a:pt x="3219" y="428"/>
                </a:lnTo>
                <a:lnTo>
                  <a:pt x="3224" y="425"/>
                </a:lnTo>
                <a:lnTo>
                  <a:pt x="3227" y="423"/>
                </a:lnTo>
                <a:lnTo>
                  <a:pt x="3229" y="422"/>
                </a:lnTo>
                <a:lnTo>
                  <a:pt x="3233" y="418"/>
                </a:lnTo>
                <a:lnTo>
                  <a:pt x="3236" y="414"/>
                </a:lnTo>
                <a:lnTo>
                  <a:pt x="3238" y="410"/>
                </a:lnTo>
                <a:lnTo>
                  <a:pt x="3240" y="405"/>
                </a:lnTo>
                <a:lnTo>
                  <a:pt x="3241" y="401"/>
                </a:lnTo>
                <a:lnTo>
                  <a:pt x="3241" y="396"/>
                </a:lnTo>
                <a:lnTo>
                  <a:pt x="3241" y="389"/>
                </a:lnTo>
                <a:lnTo>
                  <a:pt x="3240" y="385"/>
                </a:lnTo>
                <a:lnTo>
                  <a:pt x="3239" y="382"/>
                </a:lnTo>
                <a:lnTo>
                  <a:pt x="3236" y="376"/>
                </a:lnTo>
                <a:lnTo>
                  <a:pt x="3233" y="370"/>
                </a:lnTo>
                <a:lnTo>
                  <a:pt x="3228" y="365"/>
                </a:lnTo>
                <a:lnTo>
                  <a:pt x="3222" y="360"/>
                </a:lnTo>
                <a:lnTo>
                  <a:pt x="3214" y="355"/>
                </a:lnTo>
                <a:lnTo>
                  <a:pt x="3206" y="351"/>
                </a:lnTo>
                <a:lnTo>
                  <a:pt x="3101" y="306"/>
                </a:lnTo>
                <a:lnTo>
                  <a:pt x="3086" y="300"/>
                </a:lnTo>
                <a:lnTo>
                  <a:pt x="3073" y="292"/>
                </a:lnTo>
                <a:lnTo>
                  <a:pt x="3060" y="285"/>
                </a:lnTo>
                <a:lnTo>
                  <a:pt x="3049" y="277"/>
                </a:lnTo>
                <a:lnTo>
                  <a:pt x="3038" y="270"/>
                </a:lnTo>
                <a:lnTo>
                  <a:pt x="3033" y="265"/>
                </a:lnTo>
                <a:lnTo>
                  <a:pt x="3029" y="260"/>
                </a:lnTo>
                <a:lnTo>
                  <a:pt x="3021" y="252"/>
                </a:lnTo>
                <a:lnTo>
                  <a:pt x="3014" y="244"/>
                </a:lnTo>
                <a:lnTo>
                  <a:pt x="3007" y="235"/>
                </a:lnTo>
                <a:lnTo>
                  <a:pt x="3002" y="225"/>
                </a:lnTo>
                <a:lnTo>
                  <a:pt x="3000" y="220"/>
                </a:lnTo>
                <a:lnTo>
                  <a:pt x="2997" y="215"/>
                </a:lnTo>
                <a:lnTo>
                  <a:pt x="2994" y="204"/>
                </a:lnTo>
                <a:lnTo>
                  <a:pt x="2991" y="193"/>
                </a:lnTo>
                <a:lnTo>
                  <a:pt x="2989" y="181"/>
                </a:lnTo>
                <a:lnTo>
                  <a:pt x="2987" y="168"/>
                </a:lnTo>
                <a:lnTo>
                  <a:pt x="2987" y="155"/>
                </a:lnTo>
                <a:lnTo>
                  <a:pt x="2987" y="146"/>
                </a:lnTo>
                <a:lnTo>
                  <a:pt x="2988" y="137"/>
                </a:lnTo>
                <a:lnTo>
                  <a:pt x="2989" y="129"/>
                </a:lnTo>
                <a:lnTo>
                  <a:pt x="2991" y="121"/>
                </a:lnTo>
                <a:lnTo>
                  <a:pt x="2993" y="113"/>
                </a:lnTo>
                <a:lnTo>
                  <a:pt x="2995" y="106"/>
                </a:lnTo>
                <a:lnTo>
                  <a:pt x="2998" y="98"/>
                </a:lnTo>
                <a:lnTo>
                  <a:pt x="3002" y="91"/>
                </a:lnTo>
                <a:lnTo>
                  <a:pt x="3005" y="84"/>
                </a:lnTo>
                <a:lnTo>
                  <a:pt x="3010" y="78"/>
                </a:lnTo>
                <a:lnTo>
                  <a:pt x="3015" y="71"/>
                </a:lnTo>
                <a:lnTo>
                  <a:pt x="3020" y="65"/>
                </a:lnTo>
                <a:lnTo>
                  <a:pt x="3025" y="59"/>
                </a:lnTo>
                <a:lnTo>
                  <a:pt x="3032" y="53"/>
                </a:lnTo>
                <a:lnTo>
                  <a:pt x="3038" y="48"/>
                </a:lnTo>
                <a:lnTo>
                  <a:pt x="3045" y="42"/>
                </a:lnTo>
                <a:lnTo>
                  <a:pt x="3053" y="37"/>
                </a:lnTo>
                <a:lnTo>
                  <a:pt x="3060" y="32"/>
                </a:lnTo>
                <a:lnTo>
                  <a:pt x="3069" y="28"/>
                </a:lnTo>
                <a:lnTo>
                  <a:pt x="3077" y="24"/>
                </a:lnTo>
                <a:lnTo>
                  <a:pt x="3095" y="17"/>
                </a:lnTo>
                <a:lnTo>
                  <a:pt x="3104" y="14"/>
                </a:lnTo>
                <a:lnTo>
                  <a:pt x="3113" y="11"/>
                </a:lnTo>
                <a:lnTo>
                  <a:pt x="3123" y="8"/>
                </a:lnTo>
                <a:lnTo>
                  <a:pt x="3134" y="6"/>
                </a:lnTo>
                <a:lnTo>
                  <a:pt x="3144" y="4"/>
                </a:lnTo>
                <a:lnTo>
                  <a:pt x="3155" y="3"/>
                </a:lnTo>
                <a:lnTo>
                  <a:pt x="3178" y="1"/>
                </a:lnTo>
                <a:lnTo>
                  <a:pt x="3201" y="0"/>
                </a:lnTo>
                <a:lnTo>
                  <a:pt x="3217" y="1"/>
                </a:lnTo>
                <a:lnTo>
                  <a:pt x="3233" y="2"/>
                </a:lnTo>
                <a:lnTo>
                  <a:pt x="3251" y="3"/>
                </a:lnTo>
                <a:lnTo>
                  <a:pt x="3269" y="6"/>
                </a:lnTo>
                <a:lnTo>
                  <a:pt x="3308" y="12"/>
                </a:lnTo>
                <a:lnTo>
                  <a:pt x="3352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33440" y="0"/>
            <a:ext cx="7810560" cy="1025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5123" t="0" r="0" b="0"/>
          <a:stretch/>
        </p:blipFill>
        <p:spPr>
          <a:xfrm>
            <a:off x="0" y="0"/>
            <a:ext cx="1332000" cy="102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741672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BMG HR, Mch G, P. Gschwend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51E7-41F3-45BB-847A-74794DE7407B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2/01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rpo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7478280" y="141444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042b"/>
                </a:solidFill>
                <a:latin typeface="Minion"/>
                <a:ea typeface="文鼎中黑"/>
              </a:rPr>
              <a:t>Let’s enterprise again! Go!Go!G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05360" y="189000"/>
            <a:ext cx="1143000" cy="179280"/>
          </a:xfrm>
          <a:custGeom>
            <a:avLst/>
            <a:gdLst/>
            <a:ahLst/>
            <a:rect l="l" t="t" r="r" b="b"/>
            <a:pathLst>
              <a:path w="3392" h="536">
                <a:moveTo>
                  <a:pt x="366" y="19"/>
                </a:moveTo>
                <a:lnTo>
                  <a:pt x="366" y="119"/>
                </a:lnTo>
                <a:lnTo>
                  <a:pt x="347" y="112"/>
                </a:lnTo>
                <a:lnTo>
                  <a:pt x="328" y="106"/>
                </a:lnTo>
                <a:lnTo>
                  <a:pt x="310" y="101"/>
                </a:lnTo>
                <a:lnTo>
                  <a:pt x="292" y="97"/>
                </a:lnTo>
                <a:lnTo>
                  <a:pt x="275" y="94"/>
                </a:lnTo>
                <a:lnTo>
                  <a:pt x="258" y="92"/>
                </a:lnTo>
                <a:lnTo>
                  <a:pt x="242" y="90"/>
                </a:lnTo>
                <a:lnTo>
                  <a:pt x="226" y="90"/>
                </a:lnTo>
                <a:lnTo>
                  <a:pt x="217" y="90"/>
                </a:lnTo>
                <a:lnTo>
                  <a:pt x="209" y="91"/>
                </a:lnTo>
                <a:lnTo>
                  <a:pt x="201" y="92"/>
                </a:lnTo>
                <a:lnTo>
                  <a:pt x="193" y="93"/>
                </a:lnTo>
                <a:lnTo>
                  <a:pt x="186" y="95"/>
                </a:lnTo>
                <a:lnTo>
                  <a:pt x="180" y="97"/>
                </a:lnTo>
                <a:lnTo>
                  <a:pt x="174" y="100"/>
                </a:lnTo>
                <a:lnTo>
                  <a:pt x="168" y="103"/>
                </a:lnTo>
                <a:lnTo>
                  <a:pt x="163" y="106"/>
                </a:lnTo>
                <a:lnTo>
                  <a:pt x="158" y="110"/>
                </a:lnTo>
                <a:lnTo>
                  <a:pt x="155" y="113"/>
                </a:lnTo>
                <a:lnTo>
                  <a:pt x="153" y="115"/>
                </a:lnTo>
                <a:lnTo>
                  <a:pt x="152" y="117"/>
                </a:lnTo>
                <a:lnTo>
                  <a:pt x="149" y="121"/>
                </a:lnTo>
                <a:lnTo>
                  <a:pt x="148" y="126"/>
                </a:lnTo>
                <a:lnTo>
                  <a:pt x="147" y="130"/>
                </a:lnTo>
                <a:lnTo>
                  <a:pt x="146" y="135"/>
                </a:lnTo>
                <a:lnTo>
                  <a:pt x="147" y="141"/>
                </a:lnTo>
                <a:lnTo>
                  <a:pt x="149" y="147"/>
                </a:lnTo>
                <a:lnTo>
                  <a:pt x="151" y="150"/>
                </a:lnTo>
                <a:lnTo>
                  <a:pt x="153" y="153"/>
                </a:lnTo>
                <a:lnTo>
                  <a:pt x="156" y="155"/>
                </a:lnTo>
                <a:lnTo>
                  <a:pt x="157" y="157"/>
                </a:lnTo>
                <a:lnTo>
                  <a:pt x="159" y="158"/>
                </a:lnTo>
                <a:lnTo>
                  <a:pt x="166" y="164"/>
                </a:lnTo>
                <a:lnTo>
                  <a:pt x="174" y="169"/>
                </a:lnTo>
                <a:lnTo>
                  <a:pt x="184" y="174"/>
                </a:lnTo>
                <a:lnTo>
                  <a:pt x="196" y="179"/>
                </a:lnTo>
                <a:lnTo>
                  <a:pt x="291" y="225"/>
                </a:lnTo>
                <a:lnTo>
                  <a:pt x="305" y="232"/>
                </a:lnTo>
                <a:lnTo>
                  <a:pt x="318" y="239"/>
                </a:lnTo>
                <a:lnTo>
                  <a:pt x="330" y="247"/>
                </a:lnTo>
                <a:lnTo>
                  <a:pt x="342" y="255"/>
                </a:lnTo>
                <a:lnTo>
                  <a:pt x="352" y="263"/>
                </a:lnTo>
                <a:lnTo>
                  <a:pt x="361" y="272"/>
                </a:lnTo>
                <a:lnTo>
                  <a:pt x="370" y="281"/>
                </a:lnTo>
                <a:lnTo>
                  <a:pt x="378" y="290"/>
                </a:lnTo>
                <a:lnTo>
                  <a:pt x="381" y="294"/>
                </a:lnTo>
                <a:lnTo>
                  <a:pt x="384" y="299"/>
                </a:lnTo>
                <a:lnTo>
                  <a:pt x="390" y="308"/>
                </a:lnTo>
                <a:lnTo>
                  <a:pt x="395" y="318"/>
                </a:lnTo>
                <a:lnTo>
                  <a:pt x="399" y="328"/>
                </a:lnTo>
                <a:lnTo>
                  <a:pt x="402" y="338"/>
                </a:lnTo>
                <a:lnTo>
                  <a:pt x="405" y="349"/>
                </a:lnTo>
                <a:lnTo>
                  <a:pt x="406" y="360"/>
                </a:lnTo>
                <a:lnTo>
                  <a:pt x="407" y="371"/>
                </a:lnTo>
                <a:lnTo>
                  <a:pt x="406" y="381"/>
                </a:lnTo>
                <a:lnTo>
                  <a:pt x="406" y="390"/>
                </a:lnTo>
                <a:lnTo>
                  <a:pt x="404" y="398"/>
                </a:lnTo>
                <a:lnTo>
                  <a:pt x="403" y="407"/>
                </a:lnTo>
                <a:lnTo>
                  <a:pt x="401" y="415"/>
                </a:lnTo>
                <a:lnTo>
                  <a:pt x="398" y="423"/>
                </a:lnTo>
                <a:lnTo>
                  <a:pt x="395" y="431"/>
                </a:lnTo>
                <a:lnTo>
                  <a:pt x="391" y="439"/>
                </a:lnTo>
                <a:lnTo>
                  <a:pt x="387" y="446"/>
                </a:lnTo>
                <a:lnTo>
                  <a:pt x="383" y="453"/>
                </a:lnTo>
                <a:lnTo>
                  <a:pt x="378" y="460"/>
                </a:lnTo>
                <a:lnTo>
                  <a:pt x="372" y="467"/>
                </a:lnTo>
                <a:lnTo>
                  <a:pt x="366" y="474"/>
                </a:lnTo>
                <a:lnTo>
                  <a:pt x="360" y="480"/>
                </a:lnTo>
                <a:lnTo>
                  <a:pt x="353" y="486"/>
                </a:lnTo>
                <a:lnTo>
                  <a:pt x="345" y="491"/>
                </a:lnTo>
                <a:lnTo>
                  <a:pt x="337" y="497"/>
                </a:lnTo>
                <a:lnTo>
                  <a:pt x="329" y="502"/>
                </a:lnTo>
                <a:lnTo>
                  <a:pt x="321" y="507"/>
                </a:lnTo>
                <a:lnTo>
                  <a:pt x="312" y="511"/>
                </a:lnTo>
                <a:lnTo>
                  <a:pt x="294" y="519"/>
                </a:lnTo>
                <a:lnTo>
                  <a:pt x="284" y="522"/>
                </a:lnTo>
                <a:lnTo>
                  <a:pt x="274" y="525"/>
                </a:lnTo>
                <a:lnTo>
                  <a:pt x="253" y="530"/>
                </a:lnTo>
                <a:lnTo>
                  <a:pt x="242" y="532"/>
                </a:lnTo>
                <a:lnTo>
                  <a:pt x="230" y="533"/>
                </a:lnTo>
                <a:lnTo>
                  <a:pt x="219" y="535"/>
                </a:lnTo>
                <a:lnTo>
                  <a:pt x="207" y="535"/>
                </a:lnTo>
                <a:lnTo>
                  <a:pt x="194" y="536"/>
                </a:lnTo>
                <a:lnTo>
                  <a:pt x="182" y="536"/>
                </a:lnTo>
                <a:lnTo>
                  <a:pt x="159" y="536"/>
                </a:lnTo>
                <a:lnTo>
                  <a:pt x="137" y="535"/>
                </a:lnTo>
                <a:lnTo>
                  <a:pt x="116" y="534"/>
                </a:lnTo>
                <a:lnTo>
                  <a:pt x="97" y="532"/>
                </a:lnTo>
                <a:lnTo>
                  <a:pt x="77" y="529"/>
                </a:lnTo>
                <a:lnTo>
                  <a:pt x="56" y="526"/>
                </a:lnTo>
                <a:lnTo>
                  <a:pt x="34" y="522"/>
                </a:lnTo>
                <a:lnTo>
                  <a:pt x="11" y="516"/>
                </a:lnTo>
                <a:lnTo>
                  <a:pt x="11" y="411"/>
                </a:lnTo>
                <a:lnTo>
                  <a:pt x="33" y="418"/>
                </a:lnTo>
                <a:lnTo>
                  <a:pt x="54" y="424"/>
                </a:lnTo>
                <a:lnTo>
                  <a:pt x="75" y="429"/>
                </a:lnTo>
                <a:lnTo>
                  <a:pt x="95" y="433"/>
                </a:lnTo>
                <a:lnTo>
                  <a:pt x="115" y="437"/>
                </a:lnTo>
                <a:lnTo>
                  <a:pt x="134" y="439"/>
                </a:lnTo>
                <a:lnTo>
                  <a:pt x="153" y="440"/>
                </a:lnTo>
                <a:lnTo>
                  <a:pt x="171" y="441"/>
                </a:lnTo>
                <a:lnTo>
                  <a:pt x="181" y="441"/>
                </a:lnTo>
                <a:lnTo>
                  <a:pt x="191" y="440"/>
                </a:lnTo>
                <a:lnTo>
                  <a:pt x="200" y="439"/>
                </a:lnTo>
                <a:lnTo>
                  <a:pt x="209" y="438"/>
                </a:lnTo>
                <a:lnTo>
                  <a:pt x="216" y="436"/>
                </a:lnTo>
                <a:lnTo>
                  <a:pt x="223" y="434"/>
                </a:lnTo>
                <a:lnTo>
                  <a:pt x="230" y="431"/>
                </a:lnTo>
                <a:lnTo>
                  <a:pt x="233" y="430"/>
                </a:lnTo>
                <a:lnTo>
                  <a:pt x="235" y="428"/>
                </a:lnTo>
                <a:lnTo>
                  <a:pt x="240" y="425"/>
                </a:lnTo>
                <a:lnTo>
                  <a:pt x="245" y="421"/>
                </a:lnTo>
                <a:lnTo>
                  <a:pt x="249" y="417"/>
                </a:lnTo>
                <a:lnTo>
                  <a:pt x="252" y="413"/>
                </a:lnTo>
                <a:lnTo>
                  <a:pt x="254" y="408"/>
                </a:lnTo>
                <a:lnTo>
                  <a:pt x="256" y="403"/>
                </a:lnTo>
                <a:lnTo>
                  <a:pt x="257" y="397"/>
                </a:lnTo>
                <a:lnTo>
                  <a:pt x="257" y="391"/>
                </a:lnTo>
                <a:lnTo>
                  <a:pt x="256" y="385"/>
                </a:lnTo>
                <a:lnTo>
                  <a:pt x="256" y="382"/>
                </a:lnTo>
                <a:lnTo>
                  <a:pt x="255" y="379"/>
                </a:lnTo>
                <a:lnTo>
                  <a:pt x="252" y="374"/>
                </a:lnTo>
                <a:lnTo>
                  <a:pt x="248" y="369"/>
                </a:lnTo>
                <a:lnTo>
                  <a:pt x="243" y="364"/>
                </a:lnTo>
                <a:lnTo>
                  <a:pt x="237" y="359"/>
                </a:lnTo>
                <a:lnTo>
                  <a:pt x="234" y="357"/>
                </a:lnTo>
                <a:lnTo>
                  <a:pt x="230" y="355"/>
                </a:lnTo>
                <a:lnTo>
                  <a:pt x="222" y="351"/>
                </a:lnTo>
                <a:lnTo>
                  <a:pt x="116" y="306"/>
                </a:lnTo>
                <a:lnTo>
                  <a:pt x="101" y="300"/>
                </a:lnTo>
                <a:lnTo>
                  <a:pt x="88" y="293"/>
                </a:lnTo>
                <a:lnTo>
                  <a:pt x="82" y="289"/>
                </a:lnTo>
                <a:lnTo>
                  <a:pt x="76" y="285"/>
                </a:lnTo>
                <a:lnTo>
                  <a:pt x="64" y="278"/>
                </a:lnTo>
                <a:lnTo>
                  <a:pt x="54" y="269"/>
                </a:lnTo>
                <a:lnTo>
                  <a:pt x="44" y="260"/>
                </a:lnTo>
                <a:lnTo>
                  <a:pt x="36" y="251"/>
                </a:lnTo>
                <a:lnTo>
                  <a:pt x="32" y="246"/>
                </a:lnTo>
                <a:lnTo>
                  <a:pt x="28" y="242"/>
                </a:lnTo>
                <a:lnTo>
                  <a:pt x="22" y="232"/>
                </a:lnTo>
                <a:lnTo>
                  <a:pt x="16" y="222"/>
                </a:lnTo>
                <a:lnTo>
                  <a:pt x="13" y="217"/>
                </a:lnTo>
                <a:lnTo>
                  <a:pt x="11" y="212"/>
                </a:lnTo>
                <a:lnTo>
                  <a:pt x="7" y="201"/>
                </a:lnTo>
                <a:lnTo>
                  <a:pt x="4" y="190"/>
                </a:lnTo>
                <a:lnTo>
                  <a:pt x="2" y="179"/>
                </a:lnTo>
                <a:lnTo>
                  <a:pt x="1" y="167"/>
                </a:lnTo>
                <a:lnTo>
                  <a:pt x="0" y="155"/>
                </a:lnTo>
                <a:lnTo>
                  <a:pt x="0" y="146"/>
                </a:lnTo>
                <a:lnTo>
                  <a:pt x="1" y="138"/>
                </a:lnTo>
                <a:lnTo>
                  <a:pt x="2" y="130"/>
                </a:lnTo>
                <a:lnTo>
                  <a:pt x="4" y="122"/>
                </a:lnTo>
                <a:lnTo>
                  <a:pt x="6" y="114"/>
                </a:lnTo>
                <a:lnTo>
                  <a:pt x="8" y="106"/>
                </a:lnTo>
                <a:lnTo>
                  <a:pt x="11" y="99"/>
                </a:lnTo>
                <a:lnTo>
                  <a:pt x="15" y="92"/>
                </a:lnTo>
                <a:lnTo>
                  <a:pt x="19" y="85"/>
                </a:lnTo>
                <a:lnTo>
                  <a:pt x="23" y="78"/>
                </a:lnTo>
                <a:lnTo>
                  <a:pt x="28" y="72"/>
                </a:lnTo>
                <a:lnTo>
                  <a:pt x="33" y="66"/>
                </a:lnTo>
                <a:lnTo>
                  <a:pt x="39" y="60"/>
                </a:lnTo>
                <a:lnTo>
                  <a:pt x="45" y="54"/>
                </a:lnTo>
                <a:lnTo>
                  <a:pt x="59" y="43"/>
                </a:lnTo>
                <a:lnTo>
                  <a:pt x="74" y="33"/>
                </a:lnTo>
                <a:lnTo>
                  <a:pt x="82" y="28"/>
                </a:lnTo>
                <a:lnTo>
                  <a:pt x="91" y="24"/>
                </a:lnTo>
                <a:lnTo>
                  <a:pt x="100" y="20"/>
                </a:lnTo>
                <a:lnTo>
                  <a:pt x="109" y="17"/>
                </a:lnTo>
                <a:lnTo>
                  <a:pt x="118" y="14"/>
                </a:lnTo>
                <a:lnTo>
                  <a:pt x="128" y="11"/>
                </a:lnTo>
                <a:lnTo>
                  <a:pt x="148" y="6"/>
                </a:lnTo>
                <a:lnTo>
                  <a:pt x="158" y="4"/>
                </a:lnTo>
                <a:lnTo>
                  <a:pt x="169" y="3"/>
                </a:lnTo>
                <a:lnTo>
                  <a:pt x="180" y="2"/>
                </a:lnTo>
                <a:lnTo>
                  <a:pt x="192" y="1"/>
                </a:lnTo>
                <a:lnTo>
                  <a:pt x="216" y="0"/>
                </a:lnTo>
                <a:lnTo>
                  <a:pt x="232" y="1"/>
                </a:lnTo>
                <a:lnTo>
                  <a:pt x="250" y="2"/>
                </a:lnTo>
                <a:lnTo>
                  <a:pt x="268" y="3"/>
                </a:lnTo>
                <a:lnTo>
                  <a:pt x="288" y="6"/>
                </a:lnTo>
                <a:lnTo>
                  <a:pt x="308" y="8"/>
                </a:lnTo>
                <a:lnTo>
                  <a:pt x="328" y="12"/>
                </a:lnTo>
                <a:lnTo>
                  <a:pt x="347" y="15"/>
                </a:lnTo>
                <a:lnTo>
                  <a:pt x="366" y="19"/>
                </a:lnTo>
                <a:close/>
                <a:moveTo>
                  <a:pt x="631" y="10"/>
                </a:moveTo>
                <a:lnTo>
                  <a:pt x="631" y="527"/>
                </a:lnTo>
                <a:lnTo>
                  <a:pt x="476" y="527"/>
                </a:lnTo>
                <a:lnTo>
                  <a:pt x="476" y="10"/>
                </a:lnTo>
                <a:lnTo>
                  <a:pt x="631" y="10"/>
                </a:lnTo>
                <a:close/>
                <a:moveTo>
                  <a:pt x="1133" y="10"/>
                </a:moveTo>
                <a:lnTo>
                  <a:pt x="1133" y="105"/>
                </a:lnTo>
                <a:lnTo>
                  <a:pt x="902" y="105"/>
                </a:lnTo>
                <a:lnTo>
                  <a:pt x="902" y="219"/>
                </a:lnTo>
                <a:lnTo>
                  <a:pt x="1102" y="219"/>
                </a:lnTo>
                <a:lnTo>
                  <a:pt x="1102" y="306"/>
                </a:lnTo>
                <a:lnTo>
                  <a:pt x="902" y="306"/>
                </a:lnTo>
                <a:lnTo>
                  <a:pt x="902" y="427"/>
                </a:lnTo>
                <a:lnTo>
                  <a:pt x="1138" y="427"/>
                </a:lnTo>
                <a:lnTo>
                  <a:pt x="1138" y="527"/>
                </a:lnTo>
                <a:lnTo>
                  <a:pt x="752" y="527"/>
                </a:lnTo>
                <a:lnTo>
                  <a:pt x="752" y="10"/>
                </a:lnTo>
                <a:lnTo>
                  <a:pt x="1133" y="10"/>
                </a:lnTo>
                <a:close/>
                <a:moveTo>
                  <a:pt x="1859" y="10"/>
                </a:moveTo>
                <a:lnTo>
                  <a:pt x="1859" y="527"/>
                </a:lnTo>
                <a:lnTo>
                  <a:pt x="1714" y="527"/>
                </a:lnTo>
                <a:lnTo>
                  <a:pt x="1714" y="185"/>
                </a:lnTo>
                <a:lnTo>
                  <a:pt x="1563" y="531"/>
                </a:lnTo>
                <a:lnTo>
                  <a:pt x="1474" y="531"/>
                </a:lnTo>
                <a:lnTo>
                  <a:pt x="1329" y="185"/>
                </a:lnTo>
                <a:lnTo>
                  <a:pt x="1329" y="527"/>
                </a:lnTo>
                <a:lnTo>
                  <a:pt x="1224" y="527"/>
                </a:lnTo>
                <a:lnTo>
                  <a:pt x="1224" y="10"/>
                </a:lnTo>
                <a:lnTo>
                  <a:pt x="1413" y="10"/>
                </a:lnTo>
                <a:lnTo>
                  <a:pt x="1543" y="326"/>
                </a:lnTo>
                <a:lnTo>
                  <a:pt x="1678" y="10"/>
                </a:lnTo>
                <a:lnTo>
                  <a:pt x="1859" y="10"/>
                </a:lnTo>
                <a:close/>
                <a:moveTo>
                  <a:pt x="2359" y="10"/>
                </a:moveTo>
                <a:lnTo>
                  <a:pt x="2359" y="105"/>
                </a:lnTo>
                <a:lnTo>
                  <a:pt x="2130" y="105"/>
                </a:lnTo>
                <a:lnTo>
                  <a:pt x="2130" y="219"/>
                </a:lnTo>
                <a:lnTo>
                  <a:pt x="2330" y="219"/>
                </a:lnTo>
                <a:lnTo>
                  <a:pt x="2330" y="306"/>
                </a:lnTo>
                <a:lnTo>
                  <a:pt x="2130" y="306"/>
                </a:lnTo>
                <a:lnTo>
                  <a:pt x="2130" y="427"/>
                </a:lnTo>
                <a:lnTo>
                  <a:pt x="2364" y="427"/>
                </a:lnTo>
                <a:lnTo>
                  <a:pt x="2364" y="527"/>
                </a:lnTo>
                <a:lnTo>
                  <a:pt x="1979" y="527"/>
                </a:lnTo>
                <a:lnTo>
                  <a:pt x="1979" y="10"/>
                </a:lnTo>
                <a:lnTo>
                  <a:pt x="2359" y="10"/>
                </a:lnTo>
                <a:close/>
                <a:moveTo>
                  <a:pt x="2906" y="10"/>
                </a:moveTo>
                <a:lnTo>
                  <a:pt x="2906" y="527"/>
                </a:lnTo>
                <a:lnTo>
                  <a:pt x="2741" y="527"/>
                </a:lnTo>
                <a:lnTo>
                  <a:pt x="2556" y="195"/>
                </a:lnTo>
                <a:lnTo>
                  <a:pt x="2556" y="527"/>
                </a:lnTo>
                <a:lnTo>
                  <a:pt x="2450" y="527"/>
                </a:lnTo>
                <a:lnTo>
                  <a:pt x="2450" y="10"/>
                </a:lnTo>
                <a:lnTo>
                  <a:pt x="2621" y="10"/>
                </a:lnTo>
                <a:lnTo>
                  <a:pt x="2801" y="336"/>
                </a:lnTo>
                <a:lnTo>
                  <a:pt x="2801" y="10"/>
                </a:lnTo>
                <a:lnTo>
                  <a:pt x="2906" y="10"/>
                </a:lnTo>
                <a:close/>
                <a:moveTo>
                  <a:pt x="3352" y="19"/>
                </a:moveTo>
                <a:lnTo>
                  <a:pt x="3352" y="119"/>
                </a:lnTo>
                <a:lnTo>
                  <a:pt x="3333" y="112"/>
                </a:lnTo>
                <a:lnTo>
                  <a:pt x="3314" y="106"/>
                </a:lnTo>
                <a:lnTo>
                  <a:pt x="3295" y="101"/>
                </a:lnTo>
                <a:lnTo>
                  <a:pt x="3278" y="97"/>
                </a:lnTo>
                <a:lnTo>
                  <a:pt x="3260" y="94"/>
                </a:lnTo>
                <a:lnTo>
                  <a:pt x="3244" y="92"/>
                </a:lnTo>
                <a:lnTo>
                  <a:pt x="3228" y="90"/>
                </a:lnTo>
                <a:lnTo>
                  <a:pt x="3212" y="90"/>
                </a:lnTo>
                <a:lnTo>
                  <a:pt x="3203" y="90"/>
                </a:lnTo>
                <a:lnTo>
                  <a:pt x="3194" y="91"/>
                </a:lnTo>
                <a:lnTo>
                  <a:pt x="3186" y="92"/>
                </a:lnTo>
                <a:lnTo>
                  <a:pt x="3178" y="93"/>
                </a:lnTo>
                <a:lnTo>
                  <a:pt x="3171" y="95"/>
                </a:lnTo>
                <a:lnTo>
                  <a:pt x="3164" y="97"/>
                </a:lnTo>
                <a:lnTo>
                  <a:pt x="3158" y="99"/>
                </a:lnTo>
                <a:lnTo>
                  <a:pt x="3155" y="101"/>
                </a:lnTo>
                <a:lnTo>
                  <a:pt x="3152" y="102"/>
                </a:lnTo>
                <a:lnTo>
                  <a:pt x="3147" y="105"/>
                </a:lnTo>
                <a:lnTo>
                  <a:pt x="3143" y="109"/>
                </a:lnTo>
                <a:lnTo>
                  <a:pt x="3139" y="113"/>
                </a:lnTo>
                <a:lnTo>
                  <a:pt x="3138" y="115"/>
                </a:lnTo>
                <a:lnTo>
                  <a:pt x="3136" y="117"/>
                </a:lnTo>
                <a:lnTo>
                  <a:pt x="3134" y="121"/>
                </a:lnTo>
                <a:lnTo>
                  <a:pt x="3132" y="125"/>
                </a:lnTo>
                <a:lnTo>
                  <a:pt x="3131" y="130"/>
                </a:lnTo>
                <a:lnTo>
                  <a:pt x="3131" y="135"/>
                </a:lnTo>
                <a:lnTo>
                  <a:pt x="3131" y="139"/>
                </a:lnTo>
                <a:lnTo>
                  <a:pt x="3131" y="142"/>
                </a:lnTo>
                <a:lnTo>
                  <a:pt x="3132" y="146"/>
                </a:lnTo>
                <a:lnTo>
                  <a:pt x="3133" y="149"/>
                </a:lnTo>
                <a:lnTo>
                  <a:pt x="3135" y="152"/>
                </a:lnTo>
                <a:lnTo>
                  <a:pt x="3136" y="155"/>
                </a:lnTo>
                <a:lnTo>
                  <a:pt x="3138" y="158"/>
                </a:lnTo>
                <a:lnTo>
                  <a:pt x="3141" y="160"/>
                </a:lnTo>
                <a:lnTo>
                  <a:pt x="3147" y="164"/>
                </a:lnTo>
                <a:lnTo>
                  <a:pt x="3156" y="169"/>
                </a:lnTo>
                <a:lnTo>
                  <a:pt x="3167" y="174"/>
                </a:lnTo>
                <a:lnTo>
                  <a:pt x="3181" y="179"/>
                </a:lnTo>
                <a:lnTo>
                  <a:pt x="3277" y="225"/>
                </a:lnTo>
                <a:lnTo>
                  <a:pt x="3291" y="232"/>
                </a:lnTo>
                <a:lnTo>
                  <a:pt x="3304" y="239"/>
                </a:lnTo>
                <a:lnTo>
                  <a:pt x="3317" y="247"/>
                </a:lnTo>
                <a:lnTo>
                  <a:pt x="3328" y="254"/>
                </a:lnTo>
                <a:lnTo>
                  <a:pt x="3333" y="258"/>
                </a:lnTo>
                <a:lnTo>
                  <a:pt x="3338" y="262"/>
                </a:lnTo>
                <a:lnTo>
                  <a:pt x="3348" y="272"/>
                </a:lnTo>
                <a:lnTo>
                  <a:pt x="3356" y="280"/>
                </a:lnTo>
                <a:lnTo>
                  <a:pt x="3360" y="284"/>
                </a:lnTo>
                <a:lnTo>
                  <a:pt x="3364" y="289"/>
                </a:lnTo>
                <a:lnTo>
                  <a:pt x="3371" y="298"/>
                </a:lnTo>
                <a:lnTo>
                  <a:pt x="3376" y="307"/>
                </a:lnTo>
                <a:lnTo>
                  <a:pt x="3381" y="318"/>
                </a:lnTo>
                <a:lnTo>
                  <a:pt x="3385" y="328"/>
                </a:lnTo>
                <a:lnTo>
                  <a:pt x="3387" y="334"/>
                </a:lnTo>
                <a:lnTo>
                  <a:pt x="3388" y="339"/>
                </a:lnTo>
                <a:lnTo>
                  <a:pt x="3389" y="345"/>
                </a:lnTo>
                <a:lnTo>
                  <a:pt x="3390" y="351"/>
                </a:lnTo>
                <a:lnTo>
                  <a:pt x="3392" y="363"/>
                </a:lnTo>
                <a:lnTo>
                  <a:pt x="3392" y="376"/>
                </a:lnTo>
                <a:lnTo>
                  <a:pt x="3392" y="385"/>
                </a:lnTo>
                <a:lnTo>
                  <a:pt x="3391" y="393"/>
                </a:lnTo>
                <a:lnTo>
                  <a:pt x="3388" y="410"/>
                </a:lnTo>
                <a:lnTo>
                  <a:pt x="3386" y="418"/>
                </a:lnTo>
                <a:lnTo>
                  <a:pt x="3383" y="425"/>
                </a:lnTo>
                <a:lnTo>
                  <a:pt x="3380" y="433"/>
                </a:lnTo>
                <a:lnTo>
                  <a:pt x="3378" y="436"/>
                </a:lnTo>
                <a:lnTo>
                  <a:pt x="3377" y="440"/>
                </a:lnTo>
                <a:lnTo>
                  <a:pt x="3372" y="447"/>
                </a:lnTo>
                <a:lnTo>
                  <a:pt x="3368" y="454"/>
                </a:lnTo>
                <a:lnTo>
                  <a:pt x="3363" y="461"/>
                </a:lnTo>
                <a:lnTo>
                  <a:pt x="3357" y="467"/>
                </a:lnTo>
                <a:lnTo>
                  <a:pt x="3351" y="474"/>
                </a:lnTo>
                <a:lnTo>
                  <a:pt x="3344" y="480"/>
                </a:lnTo>
                <a:lnTo>
                  <a:pt x="3337" y="486"/>
                </a:lnTo>
                <a:lnTo>
                  <a:pt x="3330" y="491"/>
                </a:lnTo>
                <a:lnTo>
                  <a:pt x="3322" y="497"/>
                </a:lnTo>
                <a:lnTo>
                  <a:pt x="3314" y="502"/>
                </a:lnTo>
                <a:lnTo>
                  <a:pt x="3305" y="507"/>
                </a:lnTo>
                <a:lnTo>
                  <a:pt x="3296" y="511"/>
                </a:lnTo>
                <a:lnTo>
                  <a:pt x="3277" y="519"/>
                </a:lnTo>
                <a:lnTo>
                  <a:pt x="3268" y="522"/>
                </a:lnTo>
                <a:lnTo>
                  <a:pt x="3258" y="525"/>
                </a:lnTo>
                <a:lnTo>
                  <a:pt x="3237" y="530"/>
                </a:lnTo>
                <a:lnTo>
                  <a:pt x="3226" y="532"/>
                </a:lnTo>
                <a:lnTo>
                  <a:pt x="3214" y="533"/>
                </a:lnTo>
                <a:lnTo>
                  <a:pt x="3203" y="535"/>
                </a:lnTo>
                <a:lnTo>
                  <a:pt x="3191" y="535"/>
                </a:lnTo>
                <a:lnTo>
                  <a:pt x="3179" y="536"/>
                </a:lnTo>
                <a:lnTo>
                  <a:pt x="3166" y="536"/>
                </a:lnTo>
                <a:lnTo>
                  <a:pt x="3144" y="536"/>
                </a:lnTo>
                <a:lnTo>
                  <a:pt x="3122" y="535"/>
                </a:lnTo>
                <a:lnTo>
                  <a:pt x="3102" y="534"/>
                </a:lnTo>
                <a:lnTo>
                  <a:pt x="3082" y="532"/>
                </a:lnTo>
                <a:lnTo>
                  <a:pt x="3063" y="529"/>
                </a:lnTo>
                <a:lnTo>
                  <a:pt x="3042" y="526"/>
                </a:lnTo>
                <a:lnTo>
                  <a:pt x="3020" y="522"/>
                </a:lnTo>
                <a:lnTo>
                  <a:pt x="2996" y="516"/>
                </a:lnTo>
                <a:lnTo>
                  <a:pt x="2996" y="411"/>
                </a:lnTo>
                <a:lnTo>
                  <a:pt x="3018" y="418"/>
                </a:lnTo>
                <a:lnTo>
                  <a:pt x="3040" y="424"/>
                </a:lnTo>
                <a:lnTo>
                  <a:pt x="3060" y="429"/>
                </a:lnTo>
                <a:lnTo>
                  <a:pt x="3081" y="433"/>
                </a:lnTo>
                <a:lnTo>
                  <a:pt x="3100" y="437"/>
                </a:lnTo>
                <a:lnTo>
                  <a:pt x="3120" y="439"/>
                </a:lnTo>
                <a:lnTo>
                  <a:pt x="3138" y="440"/>
                </a:lnTo>
                <a:lnTo>
                  <a:pt x="3157" y="441"/>
                </a:lnTo>
                <a:lnTo>
                  <a:pt x="3166" y="441"/>
                </a:lnTo>
                <a:lnTo>
                  <a:pt x="3176" y="440"/>
                </a:lnTo>
                <a:lnTo>
                  <a:pt x="3184" y="439"/>
                </a:lnTo>
                <a:lnTo>
                  <a:pt x="3192" y="438"/>
                </a:lnTo>
                <a:lnTo>
                  <a:pt x="3200" y="436"/>
                </a:lnTo>
                <a:lnTo>
                  <a:pt x="3207" y="434"/>
                </a:lnTo>
                <a:lnTo>
                  <a:pt x="3213" y="431"/>
                </a:lnTo>
                <a:lnTo>
                  <a:pt x="3216" y="430"/>
                </a:lnTo>
                <a:lnTo>
                  <a:pt x="3219" y="428"/>
                </a:lnTo>
                <a:lnTo>
                  <a:pt x="3224" y="425"/>
                </a:lnTo>
                <a:lnTo>
                  <a:pt x="3227" y="423"/>
                </a:lnTo>
                <a:lnTo>
                  <a:pt x="3229" y="422"/>
                </a:lnTo>
                <a:lnTo>
                  <a:pt x="3233" y="418"/>
                </a:lnTo>
                <a:lnTo>
                  <a:pt x="3236" y="414"/>
                </a:lnTo>
                <a:lnTo>
                  <a:pt x="3238" y="410"/>
                </a:lnTo>
                <a:lnTo>
                  <a:pt x="3240" y="405"/>
                </a:lnTo>
                <a:lnTo>
                  <a:pt x="3241" y="401"/>
                </a:lnTo>
                <a:lnTo>
                  <a:pt x="3241" y="396"/>
                </a:lnTo>
                <a:lnTo>
                  <a:pt x="3241" y="389"/>
                </a:lnTo>
                <a:lnTo>
                  <a:pt x="3240" y="385"/>
                </a:lnTo>
                <a:lnTo>
                  <a:pt x="3239" y="382"/>
                </a:lnTo>
                <a:lnTo>
                  <a:pt x="3236" y="376"/>
                </a:lnTo>
                <a:lnTo>
                  <a:pt x="3233" y="370"/>
                </a:lnTo>
                <a:lnTo>
                  <a:pt x="3228" y="365"/>
                </a:lnTo>
                <a:lnTo>
                  <a:pt x="3222" y="360"/>
                </a:lnTo>
                <a:lnTo>
                  <a:pt x="3214" y="355"/>
                </a:lnTo>
                <a:lnTo>
                  <a:pt x="3206" y="351"/>
                </a:lnTo>
                <a:lnTo>
                  <a:pt x="3101" y="306"/>
                </a:lnTo>
                <a:lnTo>
                  <a:pt x="3086" y="300"/>
                </a:lnTo>
                <a:lnTo>
                  <a:pt x="3073" y="292"/>
                </a:lnTo>
                <a:lnTo>
                  <a:pt x="3060" y="285"/>
                </a:lnTo>
                <a:lnTo>
                  <a:pt x="3049" y="277"/>
                </a:lnTo>
                <a:lnTo>
                  <a:pt x="3038" y="270"/>
                </a:lnTo>
                <a:lnTo>
                  <a:pt x="3033" y="265"/>
                </a:lnTo>
                <a:lnTo>
                  <a:pt x="3029" y="260"/>
                </a:lnTo>
                <a:lnTo>
                  <a:pt x="3021" y="252"/>
                </a:lnTo>
                <a:lnTo>
                  <a:pt x="3014" y="244"/>
                </a:lnTo>
                <a:lnTo>
                  <a:pt x="3007" y="235"/>
                </a:lnTo>
                <a:lnTo>
                  <a:pt x="3002" y="225"/>
                </a:lnTo>
                <a:lnTo>
                  <a:pt x="3000" y="220"/>
                </a:lnTo>
                <a:lnTo>
                  <a:pt x="2997" y="215"/>
                </a:lnTo>
                <a:lnTo>
                  <a:pt x="2994" y="204"/>
                </a:lnTo>
                <a:lnTo>
                  <a:pt x="2991" y="193"/>
                </a:lnTo>
                <a:lnTo>
                  <a:pt x="2989" y="181"/>
                </a:lnTo>
                <a:lnTo>
                  <a:pt x="2987" y="168"/>
                </a:lnTo>
                <a:lnTo>
                  <a:pt x="2987" y="155"/>
                </a:lnTo>
                <a:lnTo>
                  <a:pt x="2987" y="146"/>
                </a:lnTo>
                <a:lnTo>
                  <a:pt x="2988" y="137"/>
                </a:lnTo>
                <a:lnTo>
                  <a:pt x="2989" y="129"/>
                </a:lnTo>
                <a:lnTo>
                  <a:pt x="2991" y="121"/>
                </a:lnTo>
                <a:lnTo>
                  <a:pt x="2993" y="113"/>
                </a:lnTo>
                <a:lnTo>
                  <a:pt x="2995" y="106"/>
                </a:lnTo>
                <a:lnTo>
                  <a:pt x="2998" y="98"/>
                </a:lnTo>
                <a:lnTo>
                  <a:pt x="3002" y="91"/>
                </a:lnTo>
                <a:lnTo>
                  <a:pt x="3005" y="84"/>
                </a:lnTo>
                <a:lnTo>
                  <a:pt x="3010" y="78"/>
                </a:lnTo>
                <a:lnTo>
                  <a:pt x="3015" y="71"/>
                </a:lnTo>
                <a:lnTo>
                  <a:pt x="3020" y="65"/>
                </a:lnTo>
                <a:lnTo>
                  <a:pt x="3025" y="59"/>
                </a:lnTo>
                <a:lnTo>
                  <a:pt x="3032" y="53"/>
                </a:lnTo>
                <a:lnTo>
                  <a:pt x="3038" y="48"/>
                </a:lnTo>
                <a:lnTo>
                  <a:pt x="3045" y="42"/>
                </a:lnTo>
                <a:lnTo>
                  <a:pt x="3053" y="37"/>
                </a:lnTo>
                <a:lnTo>
                  <a:pt x="3060" y="32"/>
                </a:lnTo>
                <a:lnTo>
                  <a:pt x="3069" y="28"/>
                </a:lnTo>
                <a:lnTo>
                  <a:pt x="3077" y="24"/>
                </a:lnTo>
                <a:lnTo>
                  <a:pt x="3095" y="17"/>
                </a:lnTo>
                <a:lnTo>
                  <a:pt x="3104" y="14"/>
                </a:lnTo>
                <a:lnTo>
                  <a:pt x="3113" y="11"/>
                </a:lnTo>
                <a:lnTo>
                  <a:pt x="3123" y="8"/>
                </a:lnTo>
                <a:lnTo>
                  <a:pt x="3134" y="6"/>
                </a:lnTo>
                <a:lnTo>
                  <a:pt x="3144" y="4"/>
                </a:lnTo>
                <a:lnTo>
                  <a:pt x="3155" y="3"/>
                </a:lnTo>
                <a:lnTo>
                  <a:pt x="3178" y="1"/>
                </a:lnTo>
                <a:lnTo>
                  <a:pt x="3201" y="0"/>
                </a:lnTo>
                <a:lnTo>
                  <a:pt x="3217" y="1"/>
                </a:lnTo>
                <a:lnTo>
                  <a:pt x="3233" y="2"/>
                </a:lnTo>
                <a:lnTo>
                  <a:pt x="3251" y="3"/>
                </a:lnTo>
                <a:lnTo>
                  <a:pt x="3269" y="6"/>
                </a:lnTo>
                <a:lnTo>
                  <a:pt x="3308" y="12"/>
                </a:lnTo>
                <a:lnTo>
                  <a:pt x="3352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0"/>
            <a:ext cx="8569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Minion"/>
              </a:rPr>
              <a:t>Leadership Quality Analysis @ BMG PHE RD</a:t>
            </a:r>
            <a:br>
              <a:rPr sz="2800"/>
            </a:br>
            <a:r>
              <a:rPr b="0" lang="en-US" sz="2400" spc="-1" strike="noStrike">
                <a:solidFill>
                  <a:srgbClr val="6600cc"/>
                </a:solidFill>
                <a:latin typeface="Minion"/>
              </a:rPr>
              <a:t>Managers assess Managers about results, capabilities and su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052720" y="8174160"/>
            <a:ext cx="1295280" cy="647640"/>
          </a:xfrm>
          <a:prstGeom prst="rect">
            <a:avLst/>
          </a:prstGeom>
          <a:solidFill>
            <a:srgbClr val="6699cc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97080" y="8318520"/>
            <a:ext cx="1079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9640" y="8102520"/>
            <a:ext cx="338436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ion of results in SPP-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ion of results in EFA/DRD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and Feedback during staff dialo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4000" y="3002040"/>
            <a:ext cx="1803240" cy="1684440"/>
          </a:xfrm>
          <a:prstGeom prst="ellipse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992160"/>
            <a:ext cx="8137440" cy="64260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Definition: The LQA is planned as a part of the feedback-tools of BMG PHE 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47640" y="3070080"/>
            <a:ext cx="1619280" cy="1366920"/>
          </a:xfrm>
          <a:prstGeom prst="rightArrow">
            <a:avLst>
              <a:gd name="adj1" fmla="val 50000"/>
              <a:gd name="adj2" fmla="val 29615"/>
            </a:avLst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Minion"/>
              </a:rPr>
              <a:t>Peer-Feedbac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Minion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Minion"/>
              </a:rPr>
              <a:t>(plann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80000" y="4797360"/>
            <a:ext cx="1366560" cy="1440000"/>
          </a:xfrm>
          <a:prstGeom prst="upArrow">
            <a:avLst>
              <a:gd name="adj1" fmla="val 50000"/>
              <a:gd name="adj2" fmla="val 26344"/>
            </a:avLst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LPF </a:t>
            </a:r>
            <a:br>
              <a:rPr sz="1800"/>
            </a:br>
            <a:r>
              <a:rPr b="0" lang="de-DE" sz="900" spc="-1" strike="noStrike">
                <a:solidFill>
                  <a:srgbClr val="000000"/>
                </a:solidFill>
                <a:latin typeface="Minion"/>
              </a:rPr>
              <a:t>(Leadership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Minion"/>
              </a:rPr>
              <a:t>Performance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Minion"/>
              </a:rPr>
              <a:t>Feedback</a:t>
            </a:r>
            <a:r>
              <a:rPr b="0" lang="de-DE" sz="1200" spc="-1" strike="noStrike">
                <a:solidFill>
                  <a:srgbClr val="000000"/>
                </a:solidFill>
                <a:latin typeface="Minio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81440" y="1413000"/>
            <a:ext cx="1366920" cy="1439640"/>
          </a:xfrm>
          <a:prstGeom prst="downArrow">
            <a:avLst>
              <a:gd name="adj1" fmla="val 50000"/>
              <a:gd name="adj2" fmla="val 26330"/>
            </a:avLst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EF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LQA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Minion"/>
              </a:rPr>
              <a:t>(pilo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30320" y="3373560"/>
            <a:ext cx="163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Perso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who receive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51640" y="3068640"/>
            <a:ext cx="1296720" cy="115236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99320" y="3324240"/>
            <a:ext cx="787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Minion"/>
              </a:rPr>
              <a:t>360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Minion"/>
              </a:rPr>
              <a:t>(not as a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Minion"/>
              </a:rPr>
              <a:t> standar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052720" y="8174160"/>
            <a:ext cx="1295280" cy="647640"/>
          </a:xfrm>
          <a:prstGeom prst="rect">
            <a:avLst/>
          </a:prstGeom>
          <a:solidFill>
            <a:srgbClr val="6699cc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97080" y="8318520"/>
            <a:ext cx="1079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8102520"/>
            <a:ext cx="338436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ion of results in SPP-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ion of results in EFA/DRD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and Feedback during staff dialo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981000"/>
            <a:ext cx="8137440" cy="258588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Goa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Evaluation of results, capabilities and suitability of managers/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Preparation of managers/employees for EFA-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Survey of the department‘s stren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Definition of individual Action Plans to foster the individual development and to strenghthen the department‘s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3573360"/>
            <a:ext cx="8137440" cy="78552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Target-grou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Managers/employees until 2 levels below Head of BMG PHE 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4665600"/>
            <a:ext cx="8137440" cy="105984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Cont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Assessment about results, capabilities and suitability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of managers/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50920" y="2668680"/>
            <a:ext cx="8137440" cy="120276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Concep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Yearly assessment (based on SLF – pending further not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Managers assess their managers/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907920"/>
            <a:ext cx="8137440" cy="189432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Data on Job-Person-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Action plans for personal development together with personal HR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(e.g. Coaching, Qualification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09800" y="4581360"/>
            <a:ext cx="1800360" cy="10796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44360" y="4624560"/>
            <a:ext cx="14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Evaluation </a:t>
            </a:r>
            <a:br>
              <a:rPr sz="1600"/>
            </a:b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hrou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MG PHE 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8000" y="4581360"/>
            <a:ext cx="1800000" cy="107964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400" y="4627440"/>
            <a:ext cx="160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First, volunt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in March 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708360" y="4581360"/>
            <a:ext cx="1800360" cy="10796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97480" y="4826160"/>
            <a:ext cx="144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Feedback </a:t>
            </a:r>
            <a:br>
              <a:rPr sz="1600"/>
            </a:b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o manag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4581360"/>
            <a:ext cx="1800000" cy="107964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42760" y="4675320"/>
            <a:ext cx="203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Definition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improvement go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(max.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08720" y="4581360"/>
            <a:ext cx="1800360" cy="10796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174080" y="4675320"/>
            <a:ext cx="171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Repe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of Assess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6 months l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160" y="4046400"/>
            <a:ext cx="386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00cc"/>
                </a:solidFill>
                <a:latin typeface="Minion"/>
              </a:rPr>
              <a:t>Pilot at BMG PHE RD – Proc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0" t="15979" r="0" b="0"/>
          <a:stretch/>
        </p:blipFill>
        <p:spPr>
          <a:xfrm>
            <a:off x="468360" y="1978200"/>
            <a:ext cx="7591320" cy="43304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95280" y="99864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ership results are evaluated regarding the categories financials, employees, customers and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1652760"/>
            <a:ext cx="72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Leadership Quality Analysis (1/2) – Leadership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rcRect l="0" t="15051" r="0" b="0"/>
          <a:stretch/>
        </p:blipFill>
        <p:spPr>
          <a:xfrm>
            <a:off x="466560" y="1698480"/>
            <a:ext cx="7490160" cy="46832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68360" y="71136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e evaluation regarding the managers suitability is a main issue in the LQ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1292400"/>
            <a:ext cx="72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Leadership Quality Analysis (2/2) – Manager´s Suit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08:43:04Z</dcterms:created>
  <dc:creator>knectahz</dc:creator>
  <dc:description/>
  <dc:language>en-US</dc:language>
  <cp:lastModifiedBy>Siegfried Bocionek</cp:lastModifiedBy>
  <dcterms:modified xsi:type="dcterms:W3CDTF">2006-03-13T12:44:40Z</dcterms:modified>
  <cp:revision>10</cp:revision>
  <dc:subject/>
  <dc:title>Agenda</dc:title>
</cp:coreProperties>
</file>